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71A-6A71-4840-8E22-4C249046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2A0-8B1C-4B3B-9D75-4589FA59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7BB-5E94-468E-B4A2-46C2DB09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472-8236-47BD-9950-187D5301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0D1-0179-4F05-8E0D-75A8046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3C92-22A8-4384-A00D-EEAA2C40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53C5-8DB8-4F2F-B400-39A6318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2757-0E14-4D34-9BC1-9058FBB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899-315C-4146-A423-4AC1DDB4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31E-1431-450F-9FAD-45646B6E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D18-6BED-4F8D-9963-438CEE1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A02-58A4-4E7F-91D6-798F4773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56E1-FB59-4D98-93A3-DE2FA66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2D8B-0AF3-41A9-B498-8EED6A4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802C-A96F-4DBB-99EA-17C4078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E043-58BF-41FA-BACA-33DA4A5F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AD3F-665D-4EA4-B23F-82152C69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EAF-6792-47F6-957B-8F3B9AA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49C-E5C1-4DA2-9DA8-AAC5E92F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AA9-B6A7-410E-8854-9E839F49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FB7-A65C-41BA-9101-D985D9F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6EA-EE9F-40A8-9014-48D18F2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335-135E-4150-8B92-E0CE29F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38B-5C56-4510-A0EC-77808B8D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1C7-3305-4D26-A4F5-CD12958D80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D100-ECD7-432D-87CB-4ECB95D42D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bj0srr1a" TargetMode="External"/><Relationship Id="rId2" Type="http://schemas.openxmlformats.org/officeDocument/2006/relationships/hyperlink" Target="https://learningapps.org/display?v=pbj0srr1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Гидролиз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50560" y="1557360"/>
            <a:ext cx="8893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дание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лючите лишнюю соль из спис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ZnC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CuS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K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Ni(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, Ag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CrC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Pb(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, CaC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L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gB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N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CaI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SnC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l(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PbS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F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S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уравнения реакций гидролиза выбранных вами с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Гидролиз органических веществ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1. Гидролиз галогеналк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+ Н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2. Гидролиз сложных эфи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-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Н +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3. Гидролиз дисахар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4. Гидролиз полисахар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s://learningapps.org/display?v=pbj0srr1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s://learningapps.org/display?v=pbj0srr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olubility_table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96" name="Ink 5" descr=""/>
          <p:cNvPicPr/>
          <p:nvPr/>
        </p:nvPicPr>
        <p:blipFill>
          <a:blip r:embed="rId2"/>
          <a:stretch/>
        </p:blipFill>
        <p:spPr>
          <a:xfrm>
            <a:off x="571680" y="1376280"/>
            <a:ext cx="22356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Ink 6" descr=""/>
          <p:cNvPicPr/>
          <p:nvPr/>
        </p:nvPicPr>
        <p:blipFill>
          <a:blip r:embed="rId3"/>
          <a:stretch/>
        </p:blipFill>
        <p:spPr>
          <a:xfrm>
            <a:off x="1447920" y="509760"/>
            <a:ext cx="150840" cy="133200"/>
          </a:xfrm>
          <a:prstGeom prst="rect">
            <a:avLst/>
          </a:prstGeom>
          <a:ln w="0">
            <a:noFill/>
          </a:ln>
        </p:spPr>
      </p:pic>
      <p:pic>
        <p:nvPicPr>
          <p:cNvPr id="98" name="Ink 7" descr=""/>
          <p:cNvPicPr/>
          <p:nvPr/>
        </p:nvPicPr>
        <p:blipFill>
          <a:blip r:embed="rId4"/>
          <a:stretch/>
        </p:blipFill>
        <p:spPr>
          <a:xfrm>
            <a:off x="1758960" y="482760"/>
            <a:ext cx="160200" cy="150480"/>
          </a:xfrm>
          <a:prstGeom prst="rect">
            <a:avLst/>
          </a:prstGeom>
          <a:ln w="0">
            <a:noFill/>
          </a:ln>
        </p:spPr>
      </p:pic>
      <p:pic>
        <p:nvPicPr>
          <p:cNvPr id="99" name="Ink 8" descr=""/>
          <p:cNvPicPr/>
          <p:nvPr/>
        </p:nvPicPr>
        <p:blipFill>
          <a:blip r:embed="rId5"/>
          <a:stretch/>
        </p:blipFill>
        <p:spPr>
          <a:xfrm>
            <a:off x="2116080" y="455760"/>
            <a:ext cx="223920" cy="187200"/>
          </a:xfrm>
          <a:prstGeom prst="rect">
            <a:avLst/>
          </a:prstGeom>
          <a:ln w="0">
            <a:noFill/>
          </a:ln>
        </p:spPr>
      </p:pic>
      <p:pic>
        <p:nvPicPr>
          <p:cNvPr id="100" name="Ink 9" descr=""/>
          <p:cNvPicPr/>
          <p:nvPr/>
        </p:nvPicPr>
        <p:blipFill>
          <a:blip r:embed="rId6"/>
          <a:stretch/>
        </p:blipFill>
        <p:spPr>
          <a:xfrm>
            <a:off x="2803680" y="492120"/>
            <a:ext cx="187200" cy="168120"/>
          </a:xfrm>
          <a:prstGeom prst="rect">
            <a:avLst/>
          </a:prstGeom>
          <a:ln w="0">
            <a:noFill/>
          </a:ln>
        </p:spPr>
      </p:pic>
      <p:pic>
        <p:nvPicPr>
          <p:cNvPr id="101" name="Ink 10" descr=""/>
          <p:cNvPicPr/>
          <p:nvPr/>
        </p:nvPicPr>
        <p:blipFill>
          <a:blip r:embed="rId7"/>
          <a:stretch/>
        </p:blipFill>
        <p:spPr>
          <a:xfrm>
            <a:off x="3233880" y="447840"/>
            <a:ext cx="212760" cy="212400"/>
          </a:xfrm>
          <a:prstGeom prst="rect">
            <a:avLst/>
          </a:prstGeom>
          <a:ln w="0">
            <a:noFill/>
          </a:ln>
        </p:spPr>
      </p:pic>
      <p:pic>
        <p:nvPicPr>
          <p:cNvPr id="102" name="Ink 11" descr=""/>
          <p:cNvPicPr/>
          <p:nvPr/>
        </p:nvPicPr>
        <p:blipFill>
          <a:blip r:embed="rId8"/>
          <a:stretch/>
        </p:blipFill>
        <p:spPr>
          <a:xfrm>
            <a:off x="706320" y="3063960"/>
            <a:ext cx="222480" cy="195120"/>
          </a:xfrm>
          <a:prstGeom prst="rect">
            <a:avLst/>
          </a:prstGeom>
          <a:ln w="0">
            <a:noFill/>
          </a:ln>
        </p:spPr>
      </p:pic>
      <p:pic>
        <p:nvPicPr>
          <p:cNvPr id="103" name="Ink 12" descr=""/>
          <p:cNvPicPr/>
          <p:nvPr/>
        </p:nvPicPr>
        <p:blipFill>
          <a:blip r:embed="rId9"/>
          <a:stretch/>
        </p:blipFill>
        <p:spPr>
          <a:xfrm>
            <a:off x="679320" y="3054240"/>
            <a:ext cx="195480" cy="293760"/>
          </a:xfrm>
          <a:prstGeom prst="rect">
            <a:avLst/>
          </a:prstGeom>
          <a:ln w="0">
            <a:noFill/>
          </a:ln>
        </p:spPr>
      </p:pic>
      <p:pic>
        <p:nvPicPr>
          <p:cNvPr id="104" name="Ink 13" descr=""/>
          <p:cNvPicPr/>
          <p:nvPr/>
        </p:nvPicPr>
        <p:blipFill>
          <a:blip r:embed="rId10"/>
          <a:stretch/>
        </p:blipFill>
        <p:spPr>
          <a:xfrm>
            <a:off x="642960" y="3589200"/>
            <a:ext cx="187200" cy="160560"/>
          </a:xfrm>
          <a:prstGeom prst="rect">
            <a:avLst/>
          </a:prstGeom>
          <a:ln w="0">
            <a:noFill/>
          </a:ln>
        </p:spPr>
      </p:pic>
      <p:pic>
        <p:nvPicPr>
          <p:cNvPr id="105" name="Ink 14" descr=""/>
          <p:cNvPicPr/>
          <p:nvPr/>
        </p:nvPicPr>
        <p:blipFill>
          <a:blip r:embed="rId11"/>
          <a:stretch/>
        </p:blipFill>
        <p:spPr>
          <a:xfrm>
            <a:off x="635040" y="3544920"/>
            <a:ext cx="1951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2" descr=""/>
          <p:cNvPicPr/>
          <p:nvPr/>
        </p:nvPicPr>
        <p:blipFill>
          <a:blip r:embed="rId1"/>
          <a:srcRect l="0" t="0" r="0" b="3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-231840"/>
            <a:ext cx="8680320" cy="164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>
            <a:off x="3780000" y="1341360"/>
            <a:ext cx="720720" cy="24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427640" y="1413000"/>
            <a:ext cx="1296720" cy="2303280"/>
          </a:xfrm>
          <a:prstGeom prst="line">
            <a:avLst/>
          </a:prstGeom>
          <a:ln w="57240">
            <a:solidFill>
              <a:srgbClr val="66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052640"/>
            <a:ext cx="3960720" cy="183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  <a:ea typeface="Arial"/>
              </a:rPr>
              <a:t>1 тип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образованы сильным основанием и сильной кисл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KNO3, Na2SO4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0" y="3789360"/>
            <a:ext cx="4572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  <a:ea typeface="Arial"/>
              </a:rPr>
              <a:t>2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Verdana"/>
                <a:ea typeface="Arial"/>
              </a:rPr>
              <a:t> ти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: образованы слабым основанием и сильной кисл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u(NO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, FeSO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859280" y="3789360"/>
            <a:ext cx="428472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Arial"/>
              </a:rPr>
              <a:t>3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  <a:ea typeface="Arial"/>
              </a:rPr>
              <a:t> тип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бразованы сильным основанием и слабой 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cc"/>
                </a:solidFill>
                <a:latin typeface="Verdana"/>
                <a:ea typeface="Arial"/>
              </a:rPr>
              <a:t>Na</a:t>
            </a:r>
            <a:r>
              <a:rPr b="1" lang="en-US" sz="1800" spc="-1" strike="noStrike">
                <a:solidFill>
                  <a:srgbClr val="6666cc"/>
                </a:solidFill>
                <a:latin typeface="Verdana"/>
                <a:ea typeface="Arial"/>
              </a:rPr>
              <a:t>2</a:t>
            </a:r>
            <a:r>
              <a:rPr b="1" lang="en-US" sz="3600" spc="-1" strike="noStrike">
                <a:solidFill>
                  <a:srgbClr val="6666cc"/>
                </a:solidFill>
                <a:latin typeface="Verdana"/>
                <a:ea typeface="Arial"/>
              </a:rPr>
              <a:t>CO3, K</a:t>
            </a:r>
            <a:r>
              <a:rPr b="1" lang="en-US" sz="1800" spc="-1" strike="noStrike">
                <a:solidFill>
                  <a:srgbClr val="6666cc"/>
                </a:solidFill>
                <a:latin typeface="Verdana"/>
                <a:ea typeface="Arial"/>
              </a:rPr>
              <a:t>2</a:t>
            </a:r>
            <a:r>
              <a:rPr b="1" lang="en-US" sz="3600" spc="-1" strike="noStrike">
                <a:solidFill>
                  <a:srgbClr val="6666cc"/>
                </a:solidFill>
                <a:latin typeface="Verdana"/>
                <a:ea typeface="Arial"/>
              </a:rPr>
              <a:t>S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580000" y="1197000"/>
            <a:ext cx="3564000" cy="19328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 тип: образованы слабым основанием и слабой  кисл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dd7"/>
                </a:solidFill>
                <a:latin typeface="Verdana"/>
                <a:ea typeface="Arial"/>
              </a:rPr>
              <a:t>ZnS, FeSO</a:t>
            </a:r>
            <a:r>
              <a:rPr b="1" lang="en-US" sz="1800" spc="-1" strike="noStrike">
                <a:solidFill>
                  <a:srgbClr val="3d3dd7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3d3dd7"/>
                </a:solidFill>
                <a:latin typeface="Verdana"/>
                <a:ea typeface="Arial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 flipH="1">
            <a:off x="3492360" y="1268280"/>
            <a:ext cx="115272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284720" y="1341360"/>
            <a:ext cx="1150920" cy="5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ли, образованные сильным  основанием и сильной  кис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41300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N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29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9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58920" y="3789360"/>
            <a:ext cx="129528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484000" y="1628640"/>
            <a:ext cx="576720" cy="144360"/>
            <a:chOff x="2484000" y="1628640"/>
            <a:chExt cx="576720" cy="144360"/>
          </a:xfrm>
        </p:grpSpPr>
        <p:sp>
          <p:nvSpPr>
            <p:cNvPr id="123" name="Line 11"/>
            <p:cNvSpPr/>
            <p:nvPr/>
          </p:nvSpPr>
          <p:spPr>
            <a:xfrm>
              <a:off x="2484360" y="1628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 flipH="1">
              <a:off x="2484000" y="1773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4"/>
          <p:cNvSpPr/>
          <p:nvPr/>
        </p:nvSpPr>
        <p:spPr>
          <a:xfrm>
            <a:off x="5219640" y="2492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Нейтральная 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973080" y="3267000"/>
            <a:ext cx="1095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407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Arial"/>
              </a:rPr>
              <a:t>лак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4858920" y="5950080"/>
            <a:ext cx="576720" cy="144360"/>
            <a:chOff x="4858920" y="5950080"/>
            <a:chExt cx="576720" cy="144360"/>
          </a:xfrm>
        </p:grpSpPr>
        <p:sp>
          <p:nvSpPr>
            <p:cNvPr id="129" name="Line 21"/>
            <p:cNvSpPr/>
            <p:nvPr/>
          </p:nvSpPr>
          <p:spPr>
            <a:xfrm>
              <a:off x="4859280" y="5950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 flipH="1">
              <a:off x="4858920" y="60944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3"/>
          <p:cNvGrpSpPr/>
          <p:nvPr/>
        </p:nvGrpSpPr>
        <p:grpSpPr>
          <a:xfrm>
            <a:off x="4858920" y="5084640"/>
            <a:ext cx="576720" cy="144360"/>
            <a:chOff x="4858920" y="5084640"/>
            <a:chExt cx="576720" cy="144360"/>
          </a:xfrm>
        </p:grpSpPr>
        <p:sp>
          <p:nvSpPr>
            <p:cNvPr id="132" name="Line 24"/>
            <p:cNvSpPr/>
            <p:nvPr/>
          </p:nvSpPr>
          <p:spPr>
            <a:xfrm>
              <a:off x="4859280" y="5084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5"/>
            <p:cNvSpPr/>
            <p:nvPr/>
          </p:nvSpPr>
          <p:spPr>
            <a:xfrm flipH="1">
              <a:off x="4858920" y="52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4788000" y="4149720"/>
            <a:ext cx="576000" cy="144360"/>
            <a:chOff x="4788000" y="4149720"/>
            <a:chExt cx="576000" cy="144360"/>
          </a:xfrm>
        </p:grpSpPr>
        <p:sp>
          <p:nvSpPr>
            <p:cNvPr id="135" name="Line 27"/>
            <p:cNvSpPr/>
            <p:nvPr/>
          </p:nvSpPr>
          <p:spPr>
            <a:xfrm>
              <a:off x="4788000" y="41497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 flipH="1">
              <a:off x="4788000" y="42940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9"/>
          <p:cNvSpPr/>
          <p:nvPr/>
        </p:nvSpPr>
        <p:spPr>
          <a:xfrm>
            <a:off x="2818440" y="3860640"/>
            <a:ext cx="185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N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5724360" y="3789360"/>
            <a:ext cx="129564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1258920" y="4724280"/>
            <a:ext cx="129528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5724360" y="5661000"/>
            <a:ext cx="1295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1258920" y="5734080"/>
            <a:ext cx="1295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5724360" y="4724280"/>
            <a:ext cx="129564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2818440" y="4869000"/>
            <a:ext cx="185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N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2818440" y="5805360"/>
            <a:ext cx="185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N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1187280" y="472428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ети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ран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1116000" y="57340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Фено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фтал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483920"/>
            <a:ext cx="91440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HOH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HOH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   +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55640" y="4365720"/>
            <a:ext cx="1870200" cy="7189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1402920" y="1700280"/>
            <a:ext cx="576720" cy="144360"/>
            <a:chOff x="1402920" y="1700280"/>
            <a:chExt cx="576720" cy="144360"/>
          </a:xfrm>
        </p:grpSpPr>
        <p:sp>
          <p:nvSpPr>
            <p:cNvPr id="150" name="Line 5"/>
            <p:cNvSpPr/>
            <p:nvPr/>
          </p:nvSpPr>
          <p:spPr>
            <a:xfrm>
              <a:off x="1403280" y="17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 flipH="1">
              <a:off x="1402920" y="1844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3492000" y="2276640"/>
            <a:ext cx="576720" cy="144360"/>
            <a:chOff x="3492000" y="2276640"/>
            <a:chExt cx="576720" cy="144360"/>
          </a:xfrm>
        </p:grpSpPr>
        <p:sp>
          <p:nvSpPr>
            <p:cNvPr id="153" name="Line 9"/>
            <p:cNvSpPr/>
            <p:nvPr/>
          </p:nvSpPr>
          <p:spPr>
            <a:xfrm>
              <a:off x="3492360" y="2276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 flipH="1">
              <a:off x="3492000" y="24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AutoShape 12"/>
          <p:cNvSpPr/>
          <p:nvPr/>
        </p:nvSpPr>
        <p:spPr>
          <a:xfrm rot="609000">
            <a:off x="5435280" y="2565000"/>
            <a:ext cx="863640" cy="720720"/>
          </a:xfrm>
          <a:prstGeom prst="wedgeEllipseCallout">
            <a:avLst>
              <a:gd name="adj1" fmla="val 77398"/>
              <a:gd name="adj2" fmla="val 206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516720" y="285264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Кисл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97080" y="3357720"/>
            <a:ext cx="7495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uC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O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uOH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l + HCl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3203280" y="3573360"/>
            <a:ext cx="576720" cy="144360"/>
            <a:chOff x="3203280" y="3573360"/>
            <a:chExt cx="576720" cy="144360"/>
          </a:xfrm>
        </p:grpSpPr>
        <p:sp>
          <p:nvSpPr>
            <p:cNvPr id="159" name="Line 16"/>
            <p:cNvSpPr/>
            <p:nvPr/>
          </p:nvSpPr>
          <p:spPr>
            <a:xfrm>
              <a:off x="3203640" y="3573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 flipH="1">
              <a:off x="3203280" y="3717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9"/>
          <p:cNvSpPr/>
          <p:nvPr/>
        </p:nvSpPr>
        <p:spPr>
          <a:xfrm>
            <a:off x="755640" y="458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0"/>
          <p:cNvSpPr/>
          <p:nvPr/>
        </p:nvSpPr>
        <p:spPr>
          <a:xfrm>
            <a:off x="3196440" y="450864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uC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5724360" y="4437000"/>
            <a:ext cx="1295640" cy="863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755640" y="5229360"/>
            <a:ext cx="1727280" cy="71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5651640" y="6138720"/>
            <a:ext cx="1295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539640" y="6138720"/>
            <a:ext cx="1727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6"/>
          <p:cNvSpPr/>
          <p:nvPr/>
        </p:nvSpPr>
        <p:spPr>
          <a:xfrm>
            <a:off x="5651640" y="5373720"/>
            <a:ext cx="1295280" cy="719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7"/>
          <p:cNvSpPr/>
          <p:nvPr/>
        </p:nvSpPr>
        <p:spPr>
          <a:xfrm>
            <a:off x="2980440" y="558972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uC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"/>
          <p:cNvSpPr/>
          <p:nvPr/>
        </p:nvSpPr>
        <p:spPr>
          <a:xfrm>
            <a:off x="3124800" y="632448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uC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539640" y="5229360"/>
            <a:ext cx="20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Ме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9640" y="60357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1"/>
          <p:cNvSpPr/>
          <p:nvPr/>
        </p:nvSpPr>
        <p:spPr>
          <a:xfrm>
            <a:off x="1979640" y="1341360"/>
            <a:ext cx="1008000" cy="647640"/>
          </a:xfrm>
          <a:prstGeom prst="wedgeRoundRectCallout">
            <a:avLst>
              <a:gd name="adj1" fmla="val -174092"/>
              <a:gd name="adj2" fmla="val 93384"/>
              <a:gd name="adj3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2700000" y="2924280"/>
            <a:ext cx="576720" cy="144360"/>
            <a:chOff x="2700000" y="2924280"/>
            <a:chExt cx="576720" cy="144360"/>
          </a:xfrm>
        </p:grpSpPr>
        <p:sp>
          <p:nvSpPr>
            <p:cNvPr id="174" name="Line 9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 flipH="1">
              <a:off x="2700000" y="3068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41"/>
          <p:cNvSpPr/>
          <p:nvPr/>
        </p:nvSpPr>
        <p:spPr>
          <a:xfrm flipH="1">
            <a:off x="4642920" y="2205000"/>
            <a:ext cx="792360" cy="3589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2"/>
          <p:cNvSpPr/>
          <p:nvPr/>
        </p:nvSpPr>
        <p:spPr>
          <a:xfrm flipH="1">
            <a:off x="1476360" y="2205000"/>
            <a:ext cx="792000" cy="3589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ли образованные слаб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ание сильной кисло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255600" y="92160"/>
            <a:ext cx="8881920" cy="1322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24000" y="1412640"/>
            <a:ext cx="8813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+ HOH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Book Antiqua"/>
              </a:rPr>
              <a:t> +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+ HOH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4581360"/>
            <a:ext cx="194292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4355640" y="2276640"/>
            <a:ext cx="576720" cy="144360"/>
            <a:chOff x="4355640" y="2276640"/>
            <a:chExt cx="576720" cy="144360"/>
          </a:xfrm>
        </p:grpSpPr>
        <p:sp>
          <p:nvSpPr>
            <p:cNvPr id="183" name="Line 6"/>
            <p:cNvSpPr/>
            <p:nvPr/>
          </p:nvSpPr>
          <p:spPr>
            <a:xfrm>
              <a:off x="4356000" y="2276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H="1">
              <a:off x="4355640" y="24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2123640" y="1628640"/>
            <a:ext cx="576720" cy="144360"/>
            <a:chOff x="2123640" y="1628640"/>
            <a:chExt cx="576720" cy="144360"/>
          </a:xfrm>
        </p:grpSpPr>
        <p:sp>
          <p:nvSpPr>
            <p:cNvPr id="186" name="Line 9"/>
            <p:cNvSpPr/>
            <p:nvPr/>
          </p:nvSpPr>
          <p:spPr>
            <a:xfrm>
              <a:off x="2124000" y="1628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>
              <a:off x="2123640" y="1773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AutoShape 11"/>
          <p:cNvSpPr/>
          <p:nvPr/>
        </p:nvSpPr>
        <p:spPr>
          <a:xfrm rot="609000">
            <a:off x="7510320" y="1796760"/>
            <a:ext cx="1152720" cy="792000"/>
          </a:xfrm>
          <a:prstGeom prst="wedgeEllipseCallout">
            <a:avLst>
              <a:gd name="adj1" fmla="val 45939"/>
              <a:gd name="adj2" fmla="val 1032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7413480" y="27082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Щелочн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143000" y="3860640"/>
            <a:ext cx="6581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O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H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+ NaOH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4"/>
          <p:cNvGrpSpPr/>
          <p:nvPr/>
        </p:nvGrpSpPr>
        <p:grpSpPr>
          <a:xfrm>
            <a:off x="3708000" y="4076640"/>
            <a:ext cx="576720" cy="144360"/>
            <a:chOff x="3708000" y="4076640"/>
            <a:chExt cx="576720" cy="144360"/>
          </a:xfrm>
        </p:grpSpPr>
        <p:sp>
          <p:nvSpPr>
            <p:cNvPr id="192" name="Line 15"/>
            <p:cNvSpPr/>
            <p:nvPr/>
          </p:nvSpPr>
          <p:spPr>
            <a:xfrm>
              <a:off x="3708360" y="4076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 flipH="1">
              <a:off x="370800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7"/>
          <p:cNvSpPr/>
          <p:nvPr/>
        </p:nvSpPr>
        <p:spPr>
          <a:xfrm>
            <a:off x="46836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5219280" y="6524640"/>
            <a:ext cx="576720" cy="144360"/>
            <a:chOff x="5219280" y="6524640"/>
            <a:chExt cx="576720" cy="144360"/>
          </a:xfrm>
        </p:grpSpPr>
        <p:sp>
          <p:nvSpPr>
            <p:cNvPr id="196" name="Line 19"/>
            <p:cNvSpPr/>
            <p:nvPr/>
          </p:nvSpPr>
          <p:spPr>
            <a:xfrm>
              <a:off x="5219640" y="6524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0"/>
            <p:cNvSpPr/>
            <p:nvPr/>
          </p:nvSpPr>
          <p:spPr>
            <a:xfrm flipH="1">
              <a:off x="5219280" y="666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1"/>
          <p:cNvGrpSpPr/>
          <p:nvPr/>
        </p:nvGrpSpPr>
        <p:grpSpPr>
          <a:xfrm>
            <a:off x="5292360" y="5589720"/>
            <a:ext cx="576720" cy="144360"/>
            <a:chOff x="5292360" y="5589720"/>
            <a:chExt cx="576720" cy="144360"/>
          </a:xfrm>
        </p:grpSpPr>
        <p:sp>
          <p:nvSpPr>
            <p:cNvPr id="199" name="Line 22"/>
            <p:cNvSpPr/>
            <p:nvPr/>
          </p:nvSpPr>
          <p:spPr>
            <a:xfrm>
              <a:off x="5292720" y="5589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 flipH="1">
              <a:off x="5292360" y="5734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"/>
          <p:cNvGrpSpPr/>
          <p:nvPr/>
        </p:nvGrpSpPr>
        <p:grpSpPr>
          <a:xfrm>
            <a:off x="5148360" y="5013360"/>
            <a:ext cx="576000" cy="144360"/>
            <a:chOff x="5148360" y="5013360"/>
            <a:chExt cx="576000" cy="144360"/>
          </a:xfrm>
        </p:grpSpPr>
        <p:sp>
          <p:nvSpPr>
            <p:cNvPr id="202" name="Line 25"/>
            <p:cNvSpPr/>
            <p:nvPr/>
          </p:nvSpPr>
          <p:spPr>
            <a:xfrm>
              <a:off x="5148360" y="50133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 flipH="1">
              <a:off x="5148360" y="51577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27"/>
          <p:cNvSpPr/>
          <p:nvPr/>
        </p:nvSpPr>
        <p:spPr>
          <a:xfrm>
            <a:off x="2925360" y="4724280"/>
            <a:ext cx="1891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6084720" y="4653000"/>
            <a:ext cx="1295640" cy="71928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0" y="5373720"/>
            <a:ext cx="233856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6084720" y="6138720"/>
            <a:ext cx="129564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0" y="6138720"/>
            <a:ext cx="2266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6084720" y="5373720"/>
            <a:ext cx="129564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2997000" y="5300640"/>
            <a:ext cx="1891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4"/>
          <p:cNvSpPr/>
          <p:nvPr/>
        </p:nvSpPr>
        <p:spPr>
          <a:xfrm>
            <a:off x="3070080" y="6035760"/>
            <a:ext cx="1891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5"/>
          <p:cNvSpPr/>
          <p:nvPr/>
        </p:nvSpPr>
        <p:spPr>
          <a:xfrm>
            <a:off x="0" y="5300640"/>
            <a:ext cx="24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Ме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6"/>
          <p:cNvSpPr/>
          <p:nvPr/>
        </p:nvSpPr>
        <p:spPr>
          <a:xfrm>
            <a:off x="0" y="6093000"/>
            <a:ext cx="22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8"/>
          <p:cNvSpPr/>
          <p:nvPr/>
        </p:nvSpPr>
        <p:spPr>
          <a:xfrm>
            <a:off x="4067280" y="1413000"/>
            <a:ext cx="1081080" cy="577800"/>
          </a:xfrm>
          <a:prstGeom prst="wedgeRoundRectCallout">
            <a:avLst>
              <a:gd name="adj1" fmla="val -167328"/>
              <a:gd name="adj2" fmla="val 78847"/>
              <a:gd name="adj3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9"/>
          <p:cNvSpPr/>
          <p:nvPr/>
        </p:nvSpPr>
        <p:spPr>
          <a:xfrm flipH="1">
            <a:off x="539280" y="1989000"/>
            <a:ext cx="1079640" cy="5032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0"/>
          <p:cNvSpPr/>
          <p:nvPr/>
        </p:nvSpPr>
        <p:spPr>
          <a:xfrm flipH="1">
            <a:off x="4789080" y="2009880"/>
            <a:ext cx="1079640" cy="5032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3347640" y="2708280"/>
            <a:ext cx="576720" cy="288720"/>
            <a:chOff x="3347640" y="2708280"/>
            <a:chExt cx="576720" cy="288720"/>
          </a:xfrm>
        </p:grpSpPr>
        <p:sp>
          <p:nvSpPr>
            <p:cNvPr id="218" name="Line 6"/>
            <p:cNvSpPr/>
            <p:nvPr/>
          </p:nvSpPr>
          <p:spPr>
            <a:xfrm>
              <a:off x="3348000" y="2708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 flipH="1">
              <a:off x="3347640" y="2997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18900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ли, образованные слабым  основанием и слабой   кис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39640" y="1844640"/>
            <a:ext cx="860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MgS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Mg</a:t>
            </a:r>
            <a:r>
              <a:rPr b="1" lang="en-US" sz="29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Mg</a:t>
            </a:r>
            <a:r>
              <a:rPr b="1" lang="en-US" sz="29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-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ru-RU" sz="29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HO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Mg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O    S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258920" y="3789360"/>
            <a:ext cx="129528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2195640" y="2060640"/>
            <a:ext cx="576000" cy="144360"/>
            <a:chOff x="2195640" y="2060640"/>
            <a:chExt cx="576000" cy="144360"/>
          </a:xfrm>
        </p:grpSpPr>
        <p:sp>
          <p:nvSpPr>
            <p:cNvPr id="224" name="Line 6"/>
            <p:cNvSpPr/>
            <p:nvPr/>
          </p:nvSpPr>
          <p:spPr>
            <a:xfrm>
              <a:off x="2195640" y="2060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 flipH="1">
              <a:off x="2195640" y="220500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8"/>
          <p:cNvSpPr/>
          <p:nvPr/>
        </p:nvSpPr>
        <p:spPr>
          <a:xfrm>
            <a:off x="3635280" y="3068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Нейтральная 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973080" y="3267000"/>
            <a:ext cx="1095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258920" y="407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Arial"/>
              </a:rPr>
              <a:t>лак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1"/>
          <p:cNvGrpSpPr/>
          <p:nvPr/>
        </p:nvGrpSpPr>
        <p:grpSpPr>
          <a:xfrm>
            <a:off x="4858920" y="5950080"/>
            <a:ext cx="576720" cy="144360"/>
            <a:chOff x="4858920" y="5950080"/>
            <a:chExt cx="576720" cy="144360"/>
          </a:xfrm>
        </p:grpSpPr>
        <p:sp>
          <p:nvSpPr>
            <p:cNvPr id="230" name="Line 12"/>
            <p:cNvSpPr/>
            <p:nvPr/>
          </p:nvSpPr>
          <p:spPr>
            <a:xfrm>
              <a:off x="4859280" y="5950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H="1">
              <a:off x="4858920" y="60944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4"/>
          <p:cNvGrpSpPr/>
          <p:nvPr/>
        </p:nvGrpSpPr>
        <p:grpSpPr>
          <a:xfrm>
            <a:off x="4858920" y="5084640"/>
            <a:ext cx="576720" cy="144360"/>
            <a:chOff x="4858920" y="5084640"/>
            <a:chExt cx="576720" cy="144360"/>
          </a:xfrm>
        </p:grpSpPr>
        <p:sp>
          <p:nvSpPr>
            <p:cNvPr id="233" name="Line 15"/>
            <p:cNvSpPr/>
            <p:nvPr/>
          </p:nvSpPr>
          <p:spPr>
            <a:xfrm>
              <a:off x="4859280" y="5084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H="1">
              <a:off x="4858920" y="52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7"/>
          <p:cNvGrpSpPr/>
          <p:nvPr/>
        </p:nvGrpSpPr>
        <p:grpSpPr>
          <a:xfrm>
            <a:off x="4788000" y="4149720"/>
            <a:ext cx="576000" cy="144360"/>
            <a:chOff x="4788000" y="4149720"/>
            <a:chExt cx="576000" cy="144360"/>
          </a:xfrm>
        </p:grpSpPr>
        <p:sp>
          <p:nvSpPr>
            <p:cNvPr id="236" name="Line 18"/>
            <p:cNvSpPr/>
            <p:nvPr/>
          </p:nvSpPr>
          <p:spPr>
            <a:xfrm>
              <a:off x="4788000" y="41497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 flipH="1">
              <a:off x="4788000" y="42940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0"/>
          <p:cNvSpPr/>
          <p:nvPr/>
        </p:nvSpPr>
        <p:spPr>
          <a:xfrm>
            <a:off x="2858400" y="3860640"/>
            <a:ext cx="178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MgS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5724360" y="3789360"/>
            <a:ext cx="129564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1258920" y="4724280"/>
            <a:ext cx="129528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5724360" y="5661000"/>
            <a:ext cx="1295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1258920" y="5734080"/>
            <a:ext cx="1295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5724360" y="4724280"/>
            <a:ext cx="129564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6"/>
          <p:cNvSpPr/>
          <p:nvPr/>
        </p:nvSpPr>
        <p:spPr>
          <a:xfrm>
            <a:off x="2875320" y="4869000"/>
            <a:ext cx="187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MgS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2875320" y="5805360"/>
            <a:ext cx="187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+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MgS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1187280" y="472428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ети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ран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1116000" y="57340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Фено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фтал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0"/>
          <p:cNvGrpSpPr/>
          <p:nvPr/>
        </p:nvGrpSpPr>
        <p:grpSpPr>
          <a:xfrm>
            <a:off x="4642920" y="2565360"/>
            <a:ext cx="576720" cy="144360"/>
            <a:chOff x="4642920" y="2565360"/>
            <a:chExt cx="576720" cy="144360"/>
          </a:xfrm>
        </p:grpSpPr>
        <p:sp>
          <p:nvSpPr>
            <p:cNvPr id="249" name="Line 31"/>
            <p:cNvSpPr/>
            <p:nvPr/>
          </p:nvSpPr>
          <p:spPr>
            <a:xfrm>
              <a:off x="4643280" y="256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H="1">
              <a:off x="4642920" y="2709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33"/>
          <p:cNvSpPr/>
          <p:nvPr/>
        </p:nvSpPr>
        <p:spPr>
          <a:xfrm>
            <a:off x="7093080" y="234936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H="1">
            <a:off x="7380000" y="285264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8244000" y="2852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6"/>
          <p:cNvSpPr/>
          <p:nvPr/>
        </p:nvSpPr>
        <p:spPr>
          <a:xfrm flipV="1">
            <a:off x="8964720" y="3284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7"/>
          <p:cNvSpPr/>
          <p:nvPr/>
        </p:nvSpPr>
        <p:spPr>
          <a:xfrm>
            <a:off x="4356000" y="1844640"/>
            <a:ext cx="1008000" cy="504720"/>
          </a:xfrm>
          <a:prstGeom prst="wedgeRoundRectCallout">
            <a:avLst>
              <a:gd name="adj1" fmla="val -217245"/>
              <a:gd name="adj2" fmla="val 85222"/>
              <a:gd name="adj3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8"/>
          <p:cNvSpPr/>
          <p:nvPr/>
        </p:nvSpPr>
        <p:spPr>
          <a:xfrm>
            <a:off x="2916360" y="1844640"/>
            <a:ext cx="1008000" cy="504720"/>
          </a:xfrm>
          <a:prstGeom prst="wedgeRoundRectCallout">
            <a:avLst>
              <a:gd name="adj1" fmla="val -202125"/>
              <a:gd name="adj2" fmla="val 71384"/>
              <a:gd name="adj3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401840" y="334800"/>
            <a:ext cx="7315200" cy="1140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0" y="1341000"/>
            <a:ext cx="91440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дание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окраску лакмуса в растворах со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Ba(NO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, FeCl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, LiNO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, CoSO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, N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, ZnS, K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возможных реакций (по одному для каждого типа со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5:58:52Z</dcterms:created>
  <dc:creator>1</dc:creator>
  <dc:description/>
  <dc:language>en-US</dc:language>
  <cp:lastModifiedBy>Межакова</cp:lastModifiedBy>
  <dcterms:modified xsi:type="dcterms:W3CDTF">2017-05-17T12:40:20Z</dcterms:modified>
  <cp:revision>8</cp:revision>
  <dc:subject/>
  <dc:title>Гидролиз</dc:title>
</cp:coreProperties>
</file>