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C1C-A44D-4718-897A-7B4212DE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A99-C4FD-4B31-AD2D-8F48E177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01B-3A30-4A05-A6DD-FCFC15E9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2ED-5328-487F-B12D-356EA806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BDC7-BF39-49C2-AE53-DD32EAB0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E9BD-5BFB-490D-BBA2-BAD86241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1142-4E9C-4F8C-9ECF-221693F8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91E3-239F-4628-BC2F-09E12447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521D-3E8F-43FE-A195-AFB23572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165B-0C6F-4C1A-BF7C-D60DF289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CC33-14A8-4444-86F6-F5E1F4AD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085-7E08-4A46-898B-7940115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DD9B-AF29-4807-903F-E9033F25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7339-01A0-4972-A562-7C0C7BA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1791-3710-4FF0-B9DD-8321560F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9A2-4A2A-4D36-8B47-F36B48DB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FA4C-F34F-4DF2-BBDE-AE307A94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78F-3F20-4998-B9CE-C4F7B749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D4D-F982-4717-84F3-5512993D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627-4221-4DE9-8651-F6902BE0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552-9866-405C-88C1-4AE17FE3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DB3-0465-439E-85C4-48FB51D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E2D-1432-43C0-9D39-6FAE37C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2C9-B67E-4AC3-AB53-BDC47517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4C5D-CB75-4421-BA2E-101BCC1333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360" y="457200"/>
            <a:ext cx="533520" cy="609120"/>
            <a:chOff x="360360" y="457200"/>
            <a:chExt cx="53352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360" cy="2919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480"/>
              <a:ext cx="291960" cy="2793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4520" y="457200"/>
              <a:ext cx="277920" cy="2919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8040" y="780480"/>
              <a:ext cx="291960" cy="2793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50BB-B085-44B6-9FC7-DC2217D24B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177640"/>
            <a:ext cx="774864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libri"/>
              </a:rPr>
              <a:t>Модели и подходы             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Calibri"/>
              </a:rPr>
              <a:t>к содержанию современного образования и воспитания школьников  </a:t>
            </a:r>
            <a:endParaRPr b="1" lang="en-US" sz="36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785600" y="3071880"/>
            <a:ext cx="533160" cy="609120"/>
            <a:chOff x="1785600" y="3071880"/>
            <a:chExt cx="533160" cy="609120"/>
          </a:xfrm>
        </p:grpSpPr>
        <p:sp>
          <p:nvSpPr>
            <p:cNvPr id="95" name="Freeform 8"/>
            <p:cNvSpPr/>
            <p:nvPr/>
          </p:nvSpPr>
          <p:spPr>
            <a:xfrm>
              <a:off x="1785960" y="3071880"/>
              <a:ext cx="279000" cy="2926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rot="5400000">
              <a:off x="1779840" y="3395520"/>
              <a:ext cx="291240" cy="279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2039400" y="3071880"/>
              <a:ext cx="278640" cy="29268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 rot="5400000">
              <a:off x="2033280" y="3395520"/>
              <a:ext cx="291240" cy="279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6760" y="571320"/>
            <a:ext cx="85726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ратегии используемые на уро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2.Активные стратег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муник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остается главным, учащиеся задают вопросы, предлагают собственные решения, дополнения, проблемы формулируются  в ходе совместного 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извлечение 3"/>
          <p:cNvSpPr/>
          <p:nvPr/>
        </p:nvSpPr>
        <p:spPr>
          <a:xfrm>
            <a:off x="539640" y="2708280"/>
            <a:ext cx="2376720" cy="2233440"/>
          </a:xfrm>
          <a:prstGeom prst="flowChartExtract">
            <a:avLst/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Улыбающееся лицо 5"/>
          <p:cNvSpPr/>
          <p:nvPr/>
        </p:nvSpPr>
        <p:spPr>
          <a:xfrm>
            <a:off x="4859280" y="2852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лыбающееся лицо 6"/>
          <p:cNvSpPr/>
          <p:nvPr/>
        </p:nvSpPr>
        <p:spPr>
          <a:xfrm>
            <a:off x="4859280" y="4724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Улыбающееся лицо 7"/>
          <p:cNvSpPr/>
          <p:nvPr/>
        </p:nvSpPr>
        <p:spPr>
          <a:xfrm>
            <a:off x="6588000" y="3789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войная стрелка влево/вправо 8"/>
          <p:cNvSpPr/>
          <p:nvPr/>
        </p:nvSpPr>
        <p:spPr>
          <a:xfrm>
            <a:off x="2771640" y="3141720"/>
            <a:ext cx="1863720" cy="142920"/>
          </a:xfrm>
          <a:prstGeom prst="leftRightArrow">
            <a:avLst>
              <a:gd name="adj1" fmla="val 50000"/>
              <a:gd name="adj2" fmla="val 49988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войная стрелка влево/вправо 9"/>
          <p:cNvSpPr/>
          <p:nvPr/>
        </p:nvSpPr>
        <p:spPr>
          <a:xfrm rot="1295400">
            <a:off x="2892240" y="4702320"/>
            <a:ext cx="1865160" cy="164880"/>
          </a:xfrm>
          <a:prstGeom prst="leftRightArrow">
            <a:avLst>
              <a:gd name="adj1" fmla="val 50000"/>
              <a:gd name="adj2" fmla="val 500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войная стрелка влево/вправо 10"/>
          <p:cNvSpPr/>
          <p:nvPr/>
        </p:nvSpPr>
        <p:spPr>
          <a:xfrm>
            <a:off x="3708360" y="4149720"/>
            <a:ext cx="2727360" cy="14292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1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684360" y="476280"/>
            <a:ext cx="828036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Форма реал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юбые виды дискус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углые столы, 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мозговые штур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личные 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Минусы страте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яд учащихся остаются пассивными ,не умеют формулировать, волнуются, отвлечение от темы урока, ограничена информация, давление педагога, лимит обуч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Плюсы стратегии</a:t>
            </a:r>
            <a:r>
              <a:rPr b="0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нужно дополнительного количества ресурсов, учитель руководит процессом, школьники учатся формулировать свои вопросы, идеи, предотвращает уход от темы, компетентный источник информации, повышается мотивация, проблема определяется совместно, возрастает индивиду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1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68360" y="549360"/>
            <a:ext cx="83516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ратегии используемые на уро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3. Интерактивные стратегии:</a:t>
            </a:r>
            <a:r>
              <a:rPr b="0" lang="ru-RU" sz="2000" spc="-1" strike="noStrike">
                <a:solidFill>
                  <a:srgbClr val="234bad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муника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перестает быть центром, опосредованно регулирует процесс, определяет общее направление (задания, вопросы, тему), контролирует порядок и план работы, дает консультации, помогает  в организации рефлексии, использование учащимися дополнительных источников информации, вступают в коммуникации друг с другом, обращаясь к собственному социальному опыту, совместно решают поставленные задачи, обобщ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извлечение 3"/>
          <p:cNvSpPr/>
          <p:nvPr/>
        </p:nvSpPr>
        <p:spPr>
          <a:xfrm>
            <a:off x="826920" y="3645000"/>
            <a:ext cx="2089440" cy="2270160"/>
          </a:xfrm>
          <a:prstGeom prst="flowChartExtract">
            <a:avLst/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лыбающееся лицо 4"/>
          <p:cNvSpPr/>
          <p:nvPr/>
        </p:nvSpPr>
        <p:spPr>
          <a:xfrm>
            <a:off x="3276720" y="3429000"/>
            <a:ext cx="790560" cy="79200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Улыбающееся лицо 5"/>
          <p:cNvSpPr/>
          <p:nvPr/>
        </p:nvSpPr>
        <p:spPr>
          <a:xfrm>
            <a:off x="6372360" y="4797360"/>
            <a:ext cx="720720" cy="72072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лыбающееся лицо 6"/>
          <p:cNvSpPr/>
          <p:nvPr/>
        </p:nvSpPr>
        <p:spPr>
          <a:xfrm>
            <a:off x="4067280" y="4869000"/>
            <a:ext cx="771480" cy="72072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лыбающееся лицо 7"/>
          <p:cNvSpPr/>
          <p:nvPr/>
        </p:nvSpPr>
        <p:spPr>
          <a:xfrm>
            <a:off x="5508720" y="3213000"/>
            <a:ext cx="792000" cy="72072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Двойная стрелка влево/вправо 8"/>
          <p:cNvSpPr/>
          <p:nvPr/>
        </p:nvSpPr>
        <p:spPr>
          <a:xfrm>
            <a:off x="4067280" y="3573360"/>
            <a:ext cx="1368360" cy="71640"/>
          </a:xfrm>
          <a:prstGeom prst="leftRightArrow">
            <a:avLst>
              <a:gd name="adj1" fmla="val 50000"/>
              <a:gd name="adj2" fmla="val 49874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Двойная стрелка влево/вправо 9"/>
          <p:cNvSpPr/>
          <p:nvPr/>
        </p:nvSpPr>
        <p:spPr>
          <a:xfrm rot="242400">
            <a:off x="4936680" y="4863960"/>
            <a:ext cx="1301760" cy="7776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Двойная стрелка влево/вправо 10"/>
          <p:cNvSpPr/>
          <p:nvPr/>
        </p:nvSpPr>
        <p:spPr>
          <a:xfrm rot="18978000">
            <a:off x="4521240" y="4392360"/>
            <a:ext cx="1359000" cy="95040"/>
          </a:xfrm>
          <a:prstGeom prst="leftRightArrow">
            <a:avLst>
              <a:gd name="adj1" fmla="val 50000"/>
              <a:gd name="adj2" fmla="val 50114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Двойная стрелка влево/вправо 11"/>
          <p:cNvSpPr/>
          <p:nvPr/>
        </p:nvSpPr>
        <p:spPr>
          <a:xfrm rot="3619200">
            <a:off x="6029280" y="4298760"/>
            <a:ext cx="1160280" cy="46080"/>
          </a:xfrm>
          <a:prstGeom prst="leftRightArrow">
            <a:avLst>
              <a:gd name="adj1" fmla="val 50000"/>
              <a:gd name="adj2" fmla="val 49893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12"/>
          <p:cNvSpPr/>
          <p:nvPr/>
        </p:nvSpPr>
        <p:spPr>
          <a:xfrm rot="813600">
            <a:off x="4133880" y="4281120"/>
            <a:ext cx="2498760" cy="79560"/>
          </a:xfrm>
          <a:prstGeom prst="leftRightArrow">
            <a:avLst>
              <a:gd name="adj1" fmla="val 50000"/>
              <a:gd name="adj2" fmla="val 49874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1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755640" y="836640"/>
            <a:ext cx="792000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Форма реал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левые и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нятие ре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Минусы страте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достаточный уровень подготовленности учащихся, отсутствие дисциплины, строгий лимит учащихся, небольшой объем изучаемого материала, необходимо большое количест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Плюсы страте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ширение ресурсной базы, высокая мотивация, максимальная индивидуализация, акцент на практику, творчество, прочность у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следование:</a:t>
            </a:r>
            <a:br>
              <a:rPr sz="2800"/>
            </a:br>
            <a:r>
              <a:rPr b="1" lang="ru-RU" sz="2800" spc="-1" strike="noStrike">
                <a:solidFill>
                  <a:srgbClr val="4987e3"/>
                </a:solidFill>
                <a:latin typeface="Arial"/>
              </a:rPr>
              <a:t>История банков в России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Эльмир\Desktop\Sibir_bank.jpg"/>
          <p:cNvPicPr/>
          <p:nvPr/>
        </p:nvPicPr>
        <p:blipFill>
          <a:blip r:embed="rId1"/>
          <a:stretch/>
        </p:blipFill>
        <p:spPr>
          <a:xfrm>
            <a:off x="971640" y="1341360"/>
            <a:ext cx="42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Эльмир\Desktop\384_img_1.jpg"/>
          <p:cNvPicPr/>
          <p:nvPr/>
        </p:nvPicPr>
        <p:blipFill>
          <a:blip r:embed="rId2"/>
          <a:stretch/>
        </p:blipFill>
        <p:spPr>
          <a:xfrm>
            <a:off x="3924360" y="3573360"/>
            <a:ext cx="403236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Эльмир\Desktop\Drawn_wallpapers_Bank_011074_.jpg"/>
          <p:cNvPicPr/>
          <p:nvPr/>
        </p:nvPicPr>
        <p:blipFill>
          <a:blip r:embed="rId3"/>
          <a:stretch/>
        </p:blipFill>
        <p:spPr>
          <a:xfrm>
            <a:off x="684360" y="4292640"/>
            <a:ext cx="3095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1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826920" y="476280"/>
            <a:ext cx="60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следование:</a:t>
            </a:r>
            <a:br>
              <a:rPr sz="2400"/>
            </a:br>
            <a:r>
              <a:rPr b="0" lang="ru-RU" sz="2400" spc="-1" strike="noStrike">
                <a:solidFill>
                  <a:srgbClr val="4987e3"/>
                </a:solidFill>
                <a:latin typeface="Arial"/>
              </a:rPr>
              <a:t>Права потреб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I:\ФотоПОТРЕБИТЕЛЬ\20130313_130228.jpg"/>
          <p:cNvPicPr/>
          <p:nvPr/>
        </p:nvPicPr>
        <p:blipFill>
          <a:blip r:embed="rId1"/>
          <a:stretch/>
        </p:blipFill>
        <p:spPr>
          <a:xfrm>
            <a:off x="250920" y="1557360"/>
            <a:ext cx="3384360" cy="3311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I:\ФотоПОТРЕБИТЕЛЬ\IMG_20130313_101425.jpg"/>
          <p:cNvPicPr/>
          <p:nvPr/>
        </p:nvPicPr>
        <p:blipFill>
          <a:blip r:embed="rId2"/>
          <a:stretch/>
        </p:blipFill>
        <p:spPr>
          <a:xfrm>
            <a:off x="3924360" y="0"/>
            <a:ext cx="453528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:\ФотоПОТРЕБИТЕЛЬ\IMG_20130313_101205.jpg"/>
          <p:cNvPicPr/>
          <p:nvPr/>
        </p:nvPicPr>
        <p:blipFill>
          <a:blip r:embed="rId3"/>
          <a:stretch/>
        </p:blipFill>
        <p:spPr>
          <a:xfrm>
            <a:off x="3708360" y="2781360"/>
            <a:ext cx="525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1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" descr="C:\Users\user\Pictures\2014-01-17\Scan1.BMP"/>
          <p:cNvPicPr/>
          <p:nvPr/>
        </p:nvPicPr>
        <p:blipFill>
          <a:blip r:embed="rId1"/>
          <a:stretch/>
        </p:blipFill>
        <p:spPr>
          <a:xfrm>
            <a:off x="5508720" y="1214280"/>
            <a:ext cx="1590480" cy="36846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C:\Users\user\Pictures\2014-01-17\Scan10001.BMP"/>
          <p:cNvPicPr/>
          <p:nvPr/>
        </p:nvPicPr>
        <p:blipFill>
          <a:blip r:embed="rId2"/>
          <a:stretch/>
        </p:blipFill>
        <p:spPr>
          <a:xfrm>
            <a:off x="7093080" y="1214280"/>
            <a:ext cx="1819080" cy="3684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642960" y="63360"/>
            <a:ext cx="542916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Segoe Script"/>
                <a:ea typeface="Calibri"/>
              </a:rPr>
              <a:t>КАК РУКОВОДИТЬ КОМПАНИ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a"/>
                </a:solidFill>
                <a:latin typeface="Calibri"/>
                <a:ea typeface="Calibri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Segoe Print"/>
                <a:ea typeface="Calibri"/>
              </a:rPr>
              <a:t>ЦЕЛЬ ИГ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-познакомиться с кругооборотом денег внутри и вне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- научиться хорошо руководить компанией, чтобы после оплаты счетов и расходов у вас осталась прибыль, которая позволяет компании работать дальше и разви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-познакомиться с затратами, необходимыми для работы предприятий и тесной связи  их  друг с дру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3297600"/>
            <a:ext cx="4673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Рассмотрите карту «Ресурсы региона» Вывод: Семьи делают покупки и деньги возвращаются на предпри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Segoe Script"/>
                <a:ea typeface="Calibri"/>
              </a:rPr>
              <a:t>КРУГОБО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Segoe Script"/>
                <a:ea typeface="Calibri"/>
              </a:rPr>
              <a:t>ПРЕДПРИЯТИЕ  - ЗАРПЛАТА - СЕМЬЯ -ПОКУПКИ-ПРЕДПРИЯ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1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I:\ФИН.ГРАМОТНОСТЬ\SAM_4752.JPG"/>
          <p:cNvPicPr/>
          <p:nvPr/>
        </p:nvPicPr>
        <p:blipFill>
          <a:blip r:embed="rId1"/>
          <a:stretch/>
        </p:blipFill>
        <p:spPr>
          <a:xfrm>
            <a:off x="0" y="476280"/>
            <a:ext cx="450072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I:\ФИН.ГРАМОТНОСТЬ\SAM_4765.JPG"/>
          <p:cNvPicPr/>
          <p:nvPr/>
        </p:nvPicPr>
        <p:blipFill>
          <a:blip r:embed="rId2"/>
          <a:stretch/>
        </p:blipFill>
        <p:spPr>
          <a:xfrm>
            <a:off x="4284720" y="907920"/>
            <a:ext cx="4859280" cy="360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I:\ФИН.ГРАМОТНОСТЬ\SAM_4798.JPG"/>
          <p:cNvPicPr/>
          <p:nvPr/>
        </p:nvPicPr>
        <p:blipFill>
          <a:blip r:embed="rId3"/>
          <a:stretch/>
        </p:blipFill>
        <p:spPr>
          <a:xfrm>
            <a:off x="324000" y="2708280"/>
            <a:ext cx="54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1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I:\ФИН.ГРАМОТНОСТЬ\SAM_4789.JPG"/>
          <p:cNvPicPr/>
          <p:nvPr/>
        </p:nvPicPr>
        <p:blipFill>
          <a:blip r:embed="rId1"/>
          <a:stretch/>
        </p:blipFill>
        <p:spPr>
          <a:xfrm>
            <a:off x="395280" y="1052640"/>
            <a:ext cx="482436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I:\ФИН.ГРАМОТНОСТЬ\SAM_4797.JPG"/>
          <p:cNvPicPr/>
          <p:nvPr/>
        </p:nvPicPr>
        <p:blipFill>
          <a:blip r:embed="rId2"/>
          <a:stretch/>
        </p:blipFill>
        <p:spPr>
          <a:xfrm>
            <a:off x="3995640" y="2708280"/>
            <a:ext cx="41767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546f"/>
                </a:solidFill>
                <a:latin typeface="Arial"/>
              </a:rPr>
              <a:t>УРОК- СЕМИНАР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8920" y="1125360"/>
            <a:ext cx="61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ровень современного экономического развития России  и ее участие в международной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ение и повторение усво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й по разделу макроэконом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навыков самообучения, дискуссии, полемики по актуаль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ам в России и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умения анализировать, систематизировать информ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ание интереса  к пополнению своих знаний  о сути экономических явлений в ст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I:\ФИН.ГРАМОТНОСТЬ\IMG_0430.JPG"/>
          <p:cNvPicPr/>
          <p:nvPr/>
        </p:nvPicPr>
        <p:blipFill>
          <a:blip r:embed="rId1"/>
          <a:stretch/>
        </p:blipFill>
        <p:spPr>
          <a:xfrm>
            <a:off x="5364000" y="1197000"/>
            <a:ext cx="3780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640" y="1025640"/>
            <a:ext cx="7920000" cy="39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234bad"/>
                </a:solidFill>
                <a:latin typeface="Calibri"/>
                <a:ea typeface="Calibri"/>
              </a:rPr>
              <a:t>Элементы современных моделей 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у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выки учас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мпроми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толера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value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-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ttitude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-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isposition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- предр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ло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:\Новая папка (3)\ВВП по ПОПС на душу населения, $.bmp"/>
          <p:cNvPicPr/>
          <p:nvPr/>
        </p:nvPicPr>
        <p:blipFill>
          <a:blip r:embed="rId1"/>
          <a:stretch/>
        </p:blipFill>
        <p:spPr>
          <a:xfrm>
            <a:off x="4643280" y="333360"/>
            <a:ext cx="4500720" cy="26640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2"/>
          <p:cNvSpPr/>
          <p:nvPr/>
        </p:nvSpPr>
        <p:spPr>
          <a:xfrm>
            <a:off x="395280" y="692280"/>
            <a:ext cx="5329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лемы экономики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Отставание уровня экономического развития ВВП на душу населения - 50 лет от Европы,60 лет – США Англии Канады Австра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395280" y="2492280"/>
            <a:ext cx="4321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ссия на пути в международную эконом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облема интеграции в международную экономику :  экономика России - 2%  мирового ВВП и 1% мирового экспорта, усиление участия в движении международного капитала, роль в международных организ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F:\IMG_0426.JPG"/>
          <p:cNvPicPr/>
          <p:nvPr/>
        </p:nvPicPr>
        <p:blipFill>
          <a:blip r:embed="rId2"/>
          <a:stretch/>
        </p:blipFill>
        <p:spPr>
          <a:xfrm>
            <a:off x="4067280" y="2852640"/>
            <a:ext cx="50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320" y="714240"/>
            <a:ext cx="8143560" cy="467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Модель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знаниево - академическая система – 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в начальной и основ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в старшей - профильная компет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Модель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Одновременное функционирование двух направлений академического и практико - ориентированного, компетентно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( гимназическое и реальное образ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Модель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Разработка переходной формы построения образования путем включения в план интегрированных к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где предметная область интегрируется со сферами  компет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a"/>
                </a:solidFill>
                <a:latin typeface="Calibri"/>
                <a:ea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3"/>
          <p:cNvSpPr txBox="1"/>
          <p:nvPr/>
        </p:nvSpPr>
        <p:spPr>
          <a:xfrm>
            <a:off x="1571760" y="2357280"/>
            <a:ext cx="721512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9cc76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внимание 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9cc769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657600" y="5867280"/>
            <a:ext cx="35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318600"/>
            <a:ext cx="8424720" cy="483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bad"/>
                </a:solidFill>
                <a:latin typeface="Calibri"/>
                <a:ea typeface="Calibri"/>
              </a:rPr>
              <a:t>Предметная 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подрастающему поколению определенных знаний и развитию гражданских умений  в ходе изучения отдельных дисцип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ффективность повышается в случае установления межпредметных свя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кие временные рамки урока, опасность предметной разобщенности, излишняя теоретизация и формализац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Arial"/>
              </a:rPr>
              <a:t>Институциональная мод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очередное внимание уделяется созданию демократической обстановке в школе, формированию правового пространства, предметы являются частью общей системы организации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6760" y="571320"/>
            <a:ext cx="85726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1" lang="ru-RU" sz="2400" spc="-1" strike="noStrike">
                <a:solidFill>
                  <a:srgbClr val="234bad"/>
                </a:solidFill>
                <a:latin typeface="Arial"/>
              </a:rPr>
              <a:t>Проектная мод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и осуществление школьниками социальных проектов, направленных на выявление, анализ той или иной общественно- социальной проблемы, подростки приобретают социальные компетенции и учатся принимать ответственные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4bad"/>
                </a:solidFill>
                <a:latin typeface="Arial"/>
              </a:rPr>
              <a:t>Пути реализации</a:t>
            </a:r>
            <a:r>
              <a:rPr b="0" lang="ru-RU" sz="1800" spc="-1" strike="noStrike">
                <a:solidFill>
                  <a:srgbClr val="234bad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рок, факультативные занятия, классные час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изация работы выражена в ролевых и деловых иг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неурочная воспитательная работ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ет потенциал объединяющий урочную и внеурочную деятельность учащихся, развивает творческую активность, можно   использовать любое внеурочное мероприятие, большие возможности для реализации и проработки 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ция -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динение проектов с целью решения проблемы или обращения внимания к обще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571320"/>
            <a:ext cx="85726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1" lang="ru-RU" sz="2400" spc="-1" strike="noStrike">
                <a:solidFill>
                  <a:srgbClr val="234bad"/>
                </a:solidFill>
                <a:latin typeface="Arial"/>
              </a:rPr>
              <a:t>Пути реализации проектов</a:t>
            </a:r>
            <a:r>
              <a:rPr b="0" lang="ru-RU" sz="2800" spc="-1" strike="noStrike">
                <a:solidFill>
                  <a:srgbClr val="234ba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ро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изация работы выражена в ролевых и деловых иг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возможностей на уроках обществоведческих дисцип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акультативные занятия, классные часы 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ие возможности для реализации и проработки 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неурочная воспитательная работ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ет потенциал объединяющий урочную и внеурочную деятельность учащихся, развивает творческую активность, можно   использовать любое внеурочное меропри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кция -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динение проектов с целью решения проблемы или обращения внимания к обще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а работы в школе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динение деятельности парламента школы, школьные ученические уставы, кодексы - очень эффективное воплощение проекта в реа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640" y="506520"/>
            <a:ext cx="8137440" cy="53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 финансовой грамотности школьника - процесс формирования у каждого учащегося социальных компетенций, достаточных для ориентации своего поведения и защиты своих интересов при соприкосновении с различными видами экономической деятельности и гражданских,  экономических, финансовых институтов - понимание роли государства в экономике, понимание своей роли как потребителя, вкладчика, налогоплатель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вленные цели и задачи на занятиях осуществляются активными методами обучения, достижение этих целей обеспечивается взаимодействием преподавателя и уче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стратегии педагогического воздействия можно разделить условно на три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506520"/>
            <a:ext cx="7704000" cy="53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разви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пособность самостоятельного осмысления ситуаций, фактов, информации, выработки позиции к действию в информационном пространстве, среде про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приви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еобходимость коммуникативных действий (грамотно задавать вопросы, презентовать свою позицию, дать рекомендацию, принять участие в обсуждении, рефлексии собственных  пробл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закреп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истема знаний и навыков, обеспечивающих социализацию учащегося, способность к адаптации своего поведения к конкретным ситуациям и проблемам, к самостоятельной защите своих инте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возник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осознанное стремление формировать и выражать, социальные роли гражданина, выступая в роли избирателя, экономического агента: покупателя, клиента, налогоплательщика,участника дискуссий,поле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56760" y="571320"/>
            <a:ext cx="85726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ратегии используемые на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34bad"/>
                </a:solidFill>
                <a:latin typeface="Calibri"/>
                <a:ea typeface="Times New Roman"/>
              </a:rPr>
              <a:t>1.Пассивные стратегии</a:t>
            </a:r>
            <a:r>
              <a:rPr b="0" lang="ru-RU" sz="2300" spc="-1" strike="noStrike">
                <a:solidFill>
                  <a:srgbClr val="234bad"/>
                </a:solidFill>
                <a:latin typeface="Calibri"/>
                <a:ea typeface="Times New Roman"/>
              </a:rPr>
              <a:t>: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муника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остороннее воздействие, зараннее составлен план работы, школьники- пассивные слушатели, отсутствие инициативы,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извлечение 3"/>
          <p:cNvSpPr/>
          <p:nvPr/>
        </p:nvSpPr>
        <p:spPr>
          <a:xfrm>
            <a:off x="611280" y="2565360"/>
            <a:ext cx="2376360" cy="2303640"/>
          </a:xfrm>
          <a:prstGeom prst="flowChartExtract">
            <a:avLst/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ашивка 4"/>
          <p:cNvSpPr/>
          <p:nvPr/>
        </p:nvSpPr>
        <p:spPr>
          <a:xfrm>
            <a:off x="3059280" y="3573360"/>
            <a:ext cx="2017440" cy="339840"/>
          </a:xfrm>
          <a:custGeom>
            <a:avLst/>
            <a:gdLst>
              <a:gd name="textAreaLeft" fmla="*/ 0 w 2017440"/>
              <a:gd name="textAreaRight" fmla="*/ 2017800 w 20174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2" y="0"/>
                </a:lnTo>
                <a:lnTo>
                  <a:pt x="21600" y="10800"/>
                </a:lnTo>
                <a:lnTo>
                  <a:pt x="19782" y="21600"/>
                </a:lnTo>
                <a:lnTo>
                  <a:pt x="0" y="21600"/>
                </a:lnTo>
                <a:lnTo>
                  <a:pt x="1818" y="10800"/>
                </a:lnTo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Улыбающееся лицо 5"/>
          <p:cNvSpPr/>
          <p:nvPr/>
        </p:nvSpPr>
        <p:spPr>
          <a:xfrm>
            <a:off x="5435640" y="2565360"/>
            <a:ext cx="1008000" cy="93492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лыбающееся лицо 6"/>
          <p:cNvSpPr/>
          <p:nvPr/>
        </p:nvSpPr>
        <p:spPr>
          <a:xfrm>
            <a:off x="5364000" y="3860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лыбающееся лицо 7"/>
          <p:cNvSpPr/>
          <p:nvPr/>
        </p:nvSpPr>
        <p:spPr>
          <a:xfrm>
            <a:off x="6804000" y="31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1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95280" y="836640"/>
            <a:ext cx="856944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Форма реализации</a:t>
            </a:r>
            <a:r>
              <a:rPr b="1" lang="ru-RU" sz="2000" spc="-1" strike="noStrike">
                <a:solidFill>
                  <a:srgbClr val="234bad"/>
                </a:solidFill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учение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ос по пройден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Минусы страте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о источников информации, плотность изложения материала, снижение мотивации, индивидуализации обучаемых, процент усвоения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зкий, уровень деятельности – низкий, акцент на запомин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жение источников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bad"/>
                </a:solidFill>
                <a:latin typeface="Calibri"/>
                <a:ea typeface="Times New Roman"/>
              </a:rPr>
              <a:t>Плюсы страте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нужно дополнительного количества ресурсов, экономия времени, структурированность подачи материала, дисциплина, нет лимита обучаемых, высокий теоретический уровень, простота оцени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8:40:33Z</dcterms:created>
  <dc:creator>Светлана</dc:creator>
  <dc:description/>
  <dc:language>en-US</dc:language>
  <cp:lastModifiedBy>TEACHERS</cp:lastModifiedBy>
  <dcterms:modified xsi:type="dcterms:W3CDTF">2016-01-29T09:34:32Z</dcterms:modified>
  <cp:revision>79</cp:revision>
  <dc:subject/>
  <dc:title>Интеграция России в Болонский процесс: за и против</dc:title>
</cp:coreProperties>
</file>