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media/image11.gif" ContentType="image/gif"/>
  <Override PartName="/ppt/media/image12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83B-09F6-42C2-84B6-B4DE9198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89E-E4E0-4B6A-884B-ED666BCD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A99-873F-43E2-B1F8-0030A0D6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053-8B4C-424D-B305-1806E370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584E-F4C0-4CB6-96CA-332771AC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B1B1-531B-4766-8258-559BBE7E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9699-4E89-4EEB-99AA-22090850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F219-B54D-4E5E-9A3D-EF4319CB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BD7C-6B2D-4EAB-B5F1-CE8CBFAF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7345-F044-4DBD-9EDE-9006518F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BCA7-B3A8-433D-A7AB-BB98296C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ADA-7391-41E7-B574-2F7211C6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F97E-62A8-49F1-8CC0-78F8B2CF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A7BB-509A-4B3C-9C14-2E00BC43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7839-8B1B-4689-B75A-CA1A7D62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C0CB-60A1-4283-93C3-6D6ECF1D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FC41-A3C1-4BC1-B5B4-E24B96D9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0528B-6515-48D9-BF9A-240D7A3A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5602A-3851-4C24-B1C8-72F76427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51929-9047-4FA0-8041-C2A676F6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91910-8488-481D-88F4-368FFB27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7ED06-32F4-4210-844F-4C5C9785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926-BA3D-42E8-B6F3-FE9B7268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21707-0BCA-4228-94E7-9E834E52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545E6-E067-4075-9764-0B62FAAD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09611-1E30-4DF9-93D1-22F36ED7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37D18-FCAF-41A9-9106-4F74FD8E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5D0B5-84F7-403B-9A9B-BBE598E0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78B0D-673D-45A3-9C07-D1525918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6728F-7F87-43AA-BCF9-E2C848FA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4568D-AB43-4043-A182-28928346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64662-A77D-479D-83E4-C4A97163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E643B-A6EB-4A5D-BDF1-D7EEE497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5C41-4E0E-43AD-BDD1-5AB91999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F020F-EB48-46F8-9540-33585130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ECC2F-29CA-4A5C-80D9-C2F4174F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CECC3-F5A7-4759-A111-61D93EDD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CCDE4-F158-4532-B296-7A0B8DD9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3255F-A895-4DF2-A866-F053AF3D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049A2-419C-4EF4-BEE7-7C13319B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BC146-D328-46C0-88E8-C0AC6106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152A9-26EF-4636-B411-45894AE4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2FE9A-8046-420E-9125-88141B28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8B33F-0C24-421B-A68C-5DE610D4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F56-D056-4ADF-95CC-A3ABB027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EC875-CE80-4336-914A-97482B5C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49F42-6B3A-474B-A082-01A55951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3B481-01E0-420D-81FA-94558142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6090F-281F-49FE-905A-E8C34F4B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5CE2B-D632-40E1-A56D-00837A5F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28652-FFE5-4A8C-AA16-8EC31CFA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2428C-2C8D-49DD-A0A0-07A34D5D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2D0E8-EA74-42EE-83C3-517BC4D7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83FCC-C37A-4A1E-AE09-C7626557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37275-B8D7-4542-9EC1-8752F31D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BC52-20D1-42ED-89E3-A48B1D1D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2B285-3A0B-4FDF-AE97-CDFF1E9D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E48-0461-49E7-BC1C-983F5C5D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02D-F3B2-4CD0-A02E-626FEDCE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17D-AF0A-47D1-97E1-1EA77B58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7F33-CC4B-47FA-9F49-C560622E5DF1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50B2-DA04-44D8-B650-51E9EE96161A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7A51-D983-49F2-BCDB-A9E516378B5E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3EAD-77B8-4E94-BAB3-14D2D96CEF2D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6A91-884B-4631-B210-E3D0413FCDE3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920" y="4723920"/>
            <a:ext cx="7989840" cy="237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ff3300"/>
                </a:solidFill>
                <a:latin typeface="Corbel"/>
              </a:rPr>
              <a:t>Презентация к разделу 2</a:t>
            </a:r>
            <a:br>
              <a:rPr sz="4900"/>
            </a:br>
            <a:br>
              <a:rPr sz="4900"/>
            </a:br>
            <a:br>
              <a:rPr sz="4900"/>
            </a:br>
            <a:br>
              <a:rPr sz="5400"/>
            </a:br>
            <a:r>
              <a:rPr b="1" lang="ru-RU" sz="5400" spc="-1" strike="noStrike">
                <a:solidFill>
                  <a:srgbClr val="ff3300"/>
                </a:solidFill>
                <a:latin typeface="Corbel"/>
              </a:rPr>
              <a:t>Магнитное поле.</a:t>
            </a:r>
            <a:br>
              <a:rPr sz="5400"/>
            </a:br>
            <a:r>
              <a:rPr b="1" lang="ru-RU" sz="5400" spc="-1" strike="noStrike">
                <a:solidFill>
                  <a:srgbClr val="ff3300"/>
                </a:solidFill>
                <a:latin typeface="Corbel"/>
              </a:rPr>
              <a:t>Электромагнитная индукци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7" name="Рисунок 8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7025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287c3"/>
                </a:solidFill>
                <a:latin typeface="Corbel"/>
              </a:rPr>
              <a:t>Электромагнитная индукция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5506920" y="31417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128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вление возникновения тока в замкнутом проводящем контуре при изменении магнитного потока пронизывающего этот конту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Рисунок 2" descr=""/>
          <p:cNvPicPr/>
          <p:nvPr/>
        </p:nvPicPr>
        <p:blipFill>
          <a:blip r:embed="rId1"/>
          <a:stretch/>
        </p:blipFill>
        <p:spPr>
          <a:xfrm>
            <a:off x="3316320" y="204840"/>
            <a:ext cx="30369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4"/>
          <p:cNvSpPr/>
          <p:nvPr/>
        </p:nvSpPr>
        <p:spPr>
          <a:xfrm>
            <a:off x="5506920" y="31417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6"/>
          <p:cNvSpPr/>
          <p:nvPr/>
        </p:nvSpPr>
        <p:spPr>
          <a:xfrm>
            <a:off x="8028000" y="6453360"/>
            <a:ext cx="863640" cy="260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651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0ac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128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2"/>
          <p:cNvSpPr/>
          <p:nvPr/>
        </p:nvSpPr>
        <p:spPr>
          <a:xfrm>
            <a:off x="1011240" y="1204920"/>
            <a:ext cx="7761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гнитным потоком Ф через поверхность S называют количество линий вектора магнитной индукции B, проходящих через поверхность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ула магнитного пот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 = BS cos 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есь α - угол между направлением вектора магнитной индукции B и нормалью к поверхности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формулы магнитного потока видно, что максимальным магнитный поток будет при cos α = 1, а это случится, когда вектор B параллелен нормали к поверхности S. Минимальным магнитный поток будет при cos α = 0, это будет, когда вектор B перпендикулярен нормали к поверхности S, ведь в этом случае линии вектора B будут скользить по поверхности S, не пересекая е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5"/>
          <p:cNvSpPr/>
          <p:nvPr/>
        </p:nvSpPr>
        <p:spPr>
          <a:xfrm>
            <a:off x="3147120" y="303120"/>
            <a:ext cx="31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Corbel"/>
              </a:rPr>
              <a:t>Тема 2.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4"/>
          <p:cNvSpPr/>
          <p:nvPr/>
        </p:nvSpPr>
        <p:spPr>
          <a:xfrm>
            <a:off x="5506920" y="31417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6"/>
          <p:cNvSpPr/>
          <p:nvPr/>
        </p:nvSpPr>
        <p:spPr>
          <a:xfrm>
            <a:off x="8028000" y="6453360"/>
            <a:ext cx="863640" cy="260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651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0ac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128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1330200" y="858960"/>
            <a:ext cx="727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Corbel"/>
              </a:rPr>
              <a:t>Тема 2.2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rbel"/>
              </a:rPr>
              <a:t>Закон электромагнитной инду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4"/>
          <p:cNvSpPr/>
          <p:nvPr/>
        </p:nvSpPr>
        <p:spPr>
          <a:xfrm>
            <a:off x="5506920" y="31417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1042920" y="1546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48400" indent="-2484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Сила, с которой магнитное поле действует на провод с током, расположенный в этом поле, называется электромагнитной си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В соответствии со сказанным в предыдущем параграфе электромагнитная сила зависит от тока </a:t>
            </a:r>
            <a:r>
              <a:rPr b="1" i="1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, магнитной индукции </a:t>
            </a:r>
            <a:r>
              <a:rPr b="1" i="1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В 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и активной длины провода </a:t>
            </a:r>
            <a:r>
              <a:rPr b="1" i="1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l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 т. е. той его части, которая расположена в магнитном поле. Если провод и вектор магнитной индукции взаимно перпендикулярны, </a:t>
            </a:r>
            <a:r>
              <a:rPr b="1" lang="ru-RU" sz="2400" spc="-1" strike="noStrike">
                <a:solidFill>
                  <a:srgbClr val="5cb85c"/>
                </a:solidFill>
                <a:latin typeface="Arial"/>
                <a:ea typeface="Arial"/>
              </a:rPr>
              <a:t>то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 сила имеет наибольшее значение и определяется по формуле </a:t>
            </a:r>
            <a:r>
              <a:rPr b="1" i="1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F = ВIl 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sin 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3"/>
          <p:cNvSpPr/>
          <p:nvPr/>
        </p:nvSpPr>
        <p:spPr>
          <a:xfrm>
            <a:off x="2124000" y="714240"/>
            <a:ext cx="535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rbel"/>
              </a:rPr>
              <a:t>Тема 2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4"/>
          <p:cNvSpPr/>
          <p:nvPr/>
        </p:nvSpPr>
        <p:spPr>
          <a:xfrm>
            <a:off x="5506920" y="31417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6"/>
          <p:cNvSpPr/>
          <p:nvPr/>
        </p:nvSpPr>
        <p:spPr>
          <a:xfrm>
            <a:off x="8028000" y="6453360"/>
            <a:ext cx="863640" cy="260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651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0ac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305928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Рис. 1. 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Arial"/>
              </a:rPr>
              <a:t>Правило левой р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3"/>
          <p:cNvSpPr/>
          <p:nvPr/>
        </p:nvSpPr>
        <p:spPr>
          <a:xfrm>
            <a:off x="2695680" y="189000"/>
            <a:ext cx="53528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rbel"/>
              </a:rPr>
              <a:t>Тема 2.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rbel"/>
              </a:rPr>
              <a:t>Закон электромагнитной ин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Рисунок 1" descr=""/>
          <p:cNvPicPr/>
          <p:nvPr/>
        </p:nvPicPr>
        <p:blipFill>
          <a:blip r:embed="rId1"/>
          <a:stretch/>
        </p:blipFill>
        <p:spPr>
          <a:xfrm>
            <a:off x="2771640" y="2197080"/>
            <a:ext cx="40356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4"/>
          <p:cNvSpPr/>
          <p:nvPr/>
        </p:nvSpPr>
        <p:spPr>
          <a:xfrm>
            <a:off x="5506920" y="31417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6"/>
          <p:cNvSpPr/>
          <p:nvPr/>
        </p:nvSpPr>
        <p:spPr>
          <a:xfrm>
            <a:off x="8028000" y="6453360"/>
            <a:ext cx="863640" cy="260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651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0ac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128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электромагнитной силы определяется по правилу левой руки: расположим ладонь левой руки так, Чтобы вектор магнитной индукции входил в нее, четыре вытяну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альца совпадали с направлением тока, тогда отогнутый под прямым углом большой палец левой руки укажет направление электромагнитной силы (рис. 1). Если угол а между проводом и направлением вектора В не равен 90°,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электромагнитная сила будет пропорциональна sin а, т. е. в этом случ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2695680" y="189000"/>
            <a:ext cx="53528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rbel"/>
              </a:rPr>
              <a:t>Тема 2.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rbel"/>
              </a:rPr>
              <a:t>Закон электромагнитной ин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4"/>
          <p:cNvSpPr/>
          <p:nvPr/>
        </p:nvSpPr>
        <p:spPr>
          <a:xfrm>
            <a:off x="5506920" y="31417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6"/>
          <p:cNvSpPr/>
          <p:nvPr/>
        </p:nvSpPr>
        <p:spPr>
          <a:xfrm>
            <a:off x="8028000" y="6453360"/>
            <a:ext cx="863640" cy="260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651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0ac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3"/>
          <p:cNvSpPr/>
          <p:nvPr/>
        </p:nvSpPr>
        <p:spPr>
          <a:xfrm>
            <a:off x="2124000" y="520560"/>
            <a:ext cx="5353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rbel"/>
              </a:rPr>
              <a:t>Тема 2.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rbel"/>
              </a:rPr>
              <a:t>Петля гистерез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Рисунок 4" descr=""/>
          <p:cNvPicPr/>
          <p:nvPr/>
        </p:nvPicPr>
        <p:blipFill>
          <a:blip r:embed="rId1"/>
          <a:stretch/>
        </p:blipFill>
        <p:spPr>
          <a:xfrm>
            <a:off x="1941480" y="1658880"/>
            <a:ext cx="522288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4"/>
          <p:cNvSpPr/>
          <p:nvPr/>
        </p:nvSpPr>
        <p:spPr>
          <a:xfrm>
            <a:off x="5506920" y="31417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8028000" y="6453360"/>
            <a:ext cx="863640" cy="260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651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0ac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3"/>
          <p:cNvSpPr/>
          <p:nvPr/>
        </p:nvSpPr>
        <p:spPr>
          <a:xfrm>
            <a:off x="2124000" y="520560"/>
            <a:ext cx="5353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rbel"/>
              </a:rPr>
              <a:t>Тема 2.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rbel"/>
              </a:rPr>
              <a:t>Петля гистерез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Рисунок 2" descr=""/>
          <p:cNvPicPr/>
          <p:nvPr/>
        </p:nvPicPr>
        <p:blipFill>
          <a:blip r:embed="rId1"/>
          <a:stretch/>
        </p:blipFill>
        <p:spPr>
          <a:xfrm>
            <a:off x="1187280" y="1658880"/>
            <a:ext cx="75218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4"/>
          <p:cNvSpPr/>
          <p:nvPr/>
        </p:nvSpPr>
        <p:spPr>
          <a:xfrm>
            <a:off x="5506920" y="31417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8028000" y="6453360"/>
            <a:ext cx="863640" cy="260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651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0ac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3"/>
          <p:cNvSpPr/>
          <p:nvPr/>
        </p:nvSpPr>
        <p:spPr>
          <a:xfrm>
            <a:off x="2124000" y="520560"/>
            <a:ext cx="5353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rbel"/>
              </a:rPr>
              <a:t>Тема 2.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rbel"/>
              </a:rPr>
              <a:t>Петля гистерез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Рисунок 1" descr=""/>
          <p:cNvPicPr/>
          <p:nvPr/>
        </p:nvPicPr>
        <p:blipFill>
          <a:blip r:embed="rId1"/>
          <a:stretch/>
        </p:blipFill>
        <p:spPr>
          <a:xfrm>
            <a:off x="1363680" y="1484280"/>
            <a:ext cx="66643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4"/>
          <p:cNvSpPr/>
          <p:nvPr/>
        </p:nvSpPr>
        <p:spPr>
          <a:xfrm>
            <a:off x="5506920" y="31417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"/>
          <p:cNvSpPr/>
          <p:nvPr/>
        </p:nvSpPr>
        <p:spPr>
          <a:xfrm>
            <a:off x="2124000" y="520560"/>
            <a:ext cx="5353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rbel"/>
              </a:rPr>
              <a:t>Тема 2.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rbel"/>
              </a:rPr>
              <a:t>Электромагнитная ин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4"/>
          <p:cNvSpPr/>
          <p:nvPr/>
        </p:nvSpPr>
        <p:spPr>
          <a:xfrm>
            <a:off x="1258920" y="1654200"/>
            <a:ext cx="7620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ктромагнитная индукция — явление возникновения электрического тока в замкнутом контуре при изменении магнитного потока, проходящего через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сно закону электромагнитной индукции Фарадея (в СИ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иментальное исследование зависимости ЭДС индукции от изменения магнитного потока привело к установлению закона электромагнитной индукции: ЭДС индукции в замкнутом контуре пропорциональна скорости изменения магнитного потока через поверхность, ограниченную конту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6560" y="1557360"/>
            <a:ext cx="7991640" cy="23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ff3300"/>
                </a:solidFill>
                <a:latin typeface="Corbel"/>
              </a:rPr>
              <a:t>Тема 2.1</a:t>
            </a:r>
            <a:br>
              <a:rPr sz="4900"/>
            </a:br>
            <a:r>
              <a:rPr b="1" lang="ru-RU" sz="4900" spc="-1" strike="noStrike">
                <a:solidFill>
                  <a:srgbClr val="ff3300"/>
                </a:solidFill>
                <a:latin typeface="Corbel"/>
              </a:rPr>
              <a:t>Магнитное поле.</a:t>
            </a:r>
            <a:br>
              <a:rPr sz="4900"/>
            </a:br>
            <a:r>
              <a:rPr b="1" lang="ru-RU" sz="4900" spc="-1" strike="noStrike">
                <a:solidFill>
                  <a:srgbClr val="ff3300"/>
                </a:solidFill>
                <a:latin typeface="Corbel"/>
              </a:rPr>
              <a:t>Напряженность и магнитная индукция</a:t>
            </a:r>
            <a:endParaRPr b="0" lang="en-US" sz="4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4"/>
          <p:cNvSpPr/>
          <p:nvPr/>
        </p:nvSpPr>
        <p:spPr>
          <a:xfrm>
            <a:off x="5506920" y="31417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3"/>
          <p:cNvSpPr/>
          <p:nvPr/>
        </p:nvSpPr>
        <p:spPr>
          <a:xfrm>
            <a:off x="2124000" y="260280"/>
            <a:ext cx="53532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rbel"/>
              </a:rPr>
              <a:t>Тема 2.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rbel"/>
              </a:rPr>
              <a:t>Закон электромагнитной ин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"/>
          <p:cNvSpPr/>
          <p:nvPr/>
        </p:nvSpPr>
        <p:spPr>
          <a:xfrm>
            <a:off x="1336680" y="1708200"/>
            <a:ext cx="7129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СИ единица магнитного потока выбрана такой, чтобы коэффициент пропорциональности между ЭДС индукции и изменением магнитного потока был равен единице. При этом закон электромагнитной индукции формулируется следующим образом: ЭДС индукции в замкнутом контуре равна модулю скорости изменения магнитного потока через поверхность, ограниченную контуром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 учетом правила Ленца закон электромагнитной индукции записывается следующим образом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Рисунок 4" descr="clip_image068"/>
          <p:cNvPicPr/>
          <p:nvPr/>
        </p:nvPicPr>
        <p:blipFill>
          <a:blip r:embed="rId1"/>
          <a:stretch/>
        </p:blipFill>
        <p:spPr>
          <a:xfrm>
            <a:off x="3924360" y="5589720"/>
            <a:ext cx="14652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4"/>
          <p:cNvSpPr/>
          <p:nvPr/>
        </p:nvSpPr>
        <p:spPr>
          <a:xfrm>
            <a:off x="5506920" y="31417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3"/>
          <p:cNvSpPr/>
          <p:nvPr/>
        </p:nvSpPr>
        <p:spPr>
          <a:xfrm>
            <a:off x="2124000" y="260280"/>
            <a:ext cx="5353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rbel"/>
              </a:rPr>
              <a:t>Тема 2.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rbel"/>
              </a:rPr>
              <a:t>ЭДС индукции в катуш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9"/>
          <p:cNvSpPr/>
          <p:nvPr/>
        </p:nvSpPr>
        <p:spPr>
          <a:xfrm>
            <a:off x="1403280" y="1400040"/>
            <a:ext cx="684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в последовательно соединенных контурах происходят одинаковые изменения магнитного потока, то ЭДС индукции в них равна сумме ЭДС индукции в каждом из контуров. Поэтому при изменении магнитного потока в катушке, состоящей из n одинаковых витков провода, общая ЭДС индукции в n раз больше ЭДС индукции в одиночном контур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Рисунок 13" descr="clip_image069"/>
          <p:cNvPicPr/>
          <p:nvPr/>
        </p:nvPicPr>
        <p:blipFill>
          <a:blip r:embed="rId1"/>
          <a:stretch/>
        </p:blipFill>
        <p:spPr>
          <a:xfrm>
            <a:off x="3444840" y="5345280"/>
            <a:ext cx="223200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4"/>
          <p:cNvSpPr/>
          <p:nvPr/>
        </p:nvSpPr>
        <p:spPr>
          <a:xfrm>
            <a:off x="5506920" y="31417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3"/>
          <p:cNvSpPr/>
          <p:nvPr/>
        </p:nvSpPr>
        <p:spPr>
          <a:xfrm>
            <a:off x="2124000" y="393840"/>
            <a:ext cx="5353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rbel"/>
              </a:rPr>
              <a:t>Тема 2.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rbel"/>
              </a:rPr>
              <a:t>ЭДС индукции в катуш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5"/>
          <p:cNvSpPr/>
          <p:nvPr/>
        </p:nvSpPr>
        <p:spPr>
          <a:xfrm>
            <a:off x="1908000" y="1787400"/>
            <a:ext cx="617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ица магнитного потока. Единица магнитного потока в Международной системе единиц называется вебером (Вб). Она определяется на основании использования закона электромагнитной индукции. Магнитный поток через площадь, ограниченную замкнутым контуром, равен 1 Вб, если при равномерном убывании этого потока до нуля за 1 с в контуре возникает ЭДС индукции 1 В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11" descr="clip_image070"/>
          <p:cNvPicPr/>
          <p:nvPr/>
        </p:nvPicPr>
        <p:blipFill>
          <a:blip r:embed="rId1"/>
          <a:stretch/>
        </p:blipFill>
        <p:spPr>
          <a:xfrm>
            <a:off x="6084720" y="4573440"/>
            <a:ext cx="1176480" cy="44316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12" descr="clip_image071"/>
          <p:cNvPicPr/>
          <p:nvPr/>
        </p:nvPicPr>
        <p:blipFill>
          <a:blip r:embed="rId2"/>
          <a:stretch/>
        </p:blipFill>
        <p:spPr>
          <a:xfrm>
            <a:off x="3648240" y="5465880"/>
            <a:ext cx="23047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4"/>
          <p:cNvSpPr/>
          <p:nvPr/>
        </p:nvSpPr>
        <p:spPr>
          <a:xfrm>
            <a:off x="5506920" y="31417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3"/>
          <p:cNvSpPr/>
          <p:nvPr/>
        </p:nvSpPr>
        <p:spPr>
          <a:xfrm>
            <a:off x="2124000" y="393840"/>
            <a:ext cx="535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rbel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2125440" y="2070000"/>
            <a:ext cx="282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uchitel.pro›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магнитное-поле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4"/>
          <p:cNvSpPr/>
          <p:nvPr/>
        </p:nvSpPr>
        <p:spPr>
          <a:xfrm>
            <a:off x="2252520" y="24321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2. 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zna4enie.ru›opredelenie/magnitnoe…opredeleni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5"/>
          <p:cNvSpPr/>
          <p:nvPr/>
        </p:nvSpPr>
        <p:spPr>
          <a:xfrm>
            <a:off x="2252520" y="28209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3. 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alc.ru›Napryazhennost-Elektricheskogo-Poly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6"/>
          <p:cNvSpPr/>
          <p:nvPr/>
        </p:nvSpPr>
        <p:spPr>
          <a:xfrm>
            <a:off x="2276640" y="320976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57200"/>
                <a:tab algn="l" pos="49860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4. Данилов И.А., Иванов П.М. Общая электротехника с основами электроники. Учеб. пособие для студ. неэлектротехн. спец. средних спец. учеб. Заведений. – М.: Высшая школа, 2004 г. – 752  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ISBN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  <a:ea typeface="Times New Roman"/>
              </a:rPr>
              <a:t> 5-06-003737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11280" y="3500280"/>
            <a:ext cx="6337440" cy="267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ff3300"/>
                </a:solidFill>
                <a:latin typeface="Corbel"/>
              </a:rPr>
              <a:t>Тема 2.1</a:t>
            </a:r>
            <a:br>
              <a:rPr sz="4900"/>
            </a:br>
            <a:r>
              <a:rPr b="1" lang="ru-RU" sz="2000" spc="-1" strike="noStrike">
                <a:solidFill>
                  <a:srgbClr val="00b0f0"/>
                </a:solidFill>
                <a:latin typeface="Corbel"/>
              </a:rPr>
              <a:t>МАГНИТНОЕ ПОЛЕ</a:t>
            </a:r>
            <a:br>
              <a:rPr sz="2000"/>
            </a:br>
            <a:r>
              <a:rPr b="1" lang="ru-RU" sz="2000" spc="-1" strike="noStrike">
                <a:solidFill>
                  <a:srgbClr val="003332"/>
                </a:solidFill>
                <a:latin typeface="Corbel"/>
              </a:rPr>
              <a:t>Подобно тому, как покоящийся электрический заряд действует на другой заряд посредством электрического поля, электрический ток действует на другой ток посредством магнитного поля. Действие магнитного поля на постоянные магниты сводится к действию его на заряды, движущиеся в атомах вещества и создающие микроскопические круговые токи.</a:t>
            </a:r>
            <a:br>
              <a:rPr sz="2000"/>
            </a:br>
            <a:r>
              <a:rPr b="1" lang="ru-RU" sz="2000" spc="-1" strike="noStrike">
                <a:solidFill>
                  <a:srgbClr val="003332"/>
                </a:solidFill>
                <a:latin typeface="Corbel"/>
              </a:rPr>
              <a:t>Учение об электромагнетизме основано на двух положениях:</a:t>
            </a:r>
            <a:br>
              <a:rPr sz="2000"/>
            </a:br>
            <a:r>
              <a:rPr b="1" lang="ru-RU" sz="2000" spc="-1" strike="noStrike">
                <a:solidFill>
                  <a:srgbClr val="003332"/>
                </a:solidFill>
                <a:latin typeface="Corbel"/>
              </a:rPr>
              <a:t>- магнитное поле действует на движущиеся заряды и токи;</a:t>
            </a:r>
            <a:br>
              <a:rPr sz="2000"/>
            </a:br>
            <a:r>
              <a:rPr b="1" lang="ru-RU" sz="2000" spc="-1" strike="noStrike">
                <a:solidFill>
                  <a:srgbClr val="003332"/>
                </a:solidFill>
                <a:latin typeface="Corbel"/>
              </a:rPr>
              <a:t>- магнитное поле возникает вокруг токов и движущихся заряд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11280" y="3212640"/>
            <a:ext cx="6337440" cy="26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ff3300"/>
                </a:solidFill>
                <a:latin typeface="Corbel"/>
              </a:rPr>
              <a:t>Тема 2.1</a:t>
            </a:r>
            <a:br>
              <a:rPr sz="4900"/>
            </a:br>
            <a:r>
              <a:rPr b="1" lang="ru-RU" sz="2200" spc="-1" strike="noStrike">
                <a:solidFill>
                  <a:srgbClr val="00b0f0"/>
                </a:solidFill>
                <a:latin typeface="Corbel"/>
              </a:rPr>
              <a:t>Опыт Эрстеда</a:t>
            </a:r>
            <a:br>
              <a:rPr sz="2200"/>
            </a:br>
            <a:r>
              <a:rPr b="1" lang="ru-RU" sz="2200" spc="-1" strike="noStrike">
                <a:solidFill>
                  <a:srgbClr val="3b3b3b"/>
                </a:solidFill>
                <a:latin typeface="Corbel"/>
              </a:rPr>
              <a:t>Первыми экспериментами (проведены в 1820 г.), показавшими, что между электрическими и магнитными явлениями имеется глубокая связь, были опыты датского физика Х. Эрстеда.</a:t>
            </a:r>
            <a:br>
              <a:rPr sz="2200"/>
            </a:br>
            <a:r>
              <a:rPr b="1" lang="ru-RU" sz="2200" spc="-1" strike="noStrike">
                <a:solidFill>
                  <a:srgbClr val="3b3b3b"/>
                </a:solidFill>
                <a:latin typeface="Corbel"/>
              </a:rPr>
              <a:t>Магнитная стрелка, расположенная вблизи проводника, поворачивается на некоторый угол при включении тока в проводнике. При размыкании цепи стрелка возвращается в исходное положение.</a:t>
            </a:r>
            <a:br>
              <a:rPr sz="2200"/>
            </a:br>
            <a:r>
              <a:rPr b="1" lang="ru-RU" sz="2200" spc="-1" strike="noStrike">
                <a:solidFill>
                  <a:srgbClr val="3b3b3b"/>
                </a:solidFill>
                <a:latin typeface="Corbel"/>
              </a:rPr>
              <a:t>Из опыта Г. Эрстеда следует, что вокруг этого проводника существует магнитное поле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23640" y="2781000"/>
            <a:ext cx="6335640" cy="26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ff3300"/>
                </a:solidFill>
                <a:latin typeface="Corbel"/>
              </a:rPr>
              <a:t>Тема 2.1</a:t>
            </a:r>
            <a:br>
              <a:rPr sz="4900"/>
            </a:br>
            <a:r>
              <a:rPr b="1" lang="ru-RU" sz="2800" spc="-1" strike="noStrike">
                <a:solidFill>
                  <a:srgbClr val="1287c3"/>
                </a:solidFill>
                <a:latin typeface="Corbel"/>
              </a:rPr>
              <a:t>Опыт Ампера</a:t>
            </a:r>
            <a:br>
              <a:rPr sz="2800"/>
            </a:br>
            <a:r>
              <a:rPr b="1" lang="ru-RU" sz="2800" spc="-1" strike="noStrike">
                <a:solidFill>
                  <a:srgbClr val="03010f"/>
                </a:solidFill>
                <a:latin typeface="Corbel"/>
              </a:rPr>
              <a:t>Два параллельных проводника, по которым протекает электрический ток, взаимодействуют между собой: притягиваются, если токи сонаправлены, и отталкиваются, если токи направлены противоположно. Это происходит из-за взаимодействия возникающих вокруг проводников магнитных поле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95280" y="3644640"/>
            <a:ext cx="6337080" cy="26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ff3300"/>
                </a:solidFill>
                <a:latin typeface="Corbel"/>
              </a:rPr>
              <a:t>Тема 2.1</a:t>
            </a:r>
            <a:br>
              <a:rPr sz="4900"/>
            </a:br>
            <a:r>
              <a:rPr b="1" lang="ru-RU" sz="2200" spc="-1" strike="noStrike">
                <a:solidFill>
                  <a:srgbClr val="00b0f0"/>
                </a:solidFill>
                <a:latin typeface="Corbel"/>
              </a:rPr>
              <a:t>Свойства магнитного поля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. Материально, т.е. существует независимо от нас и наших знаний о нём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2. Создаётся магнитами, проводниками с током (движущимися заряженными частицами)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3. Обнаруживается по взаимодействию магнитов, проводников с током (движущихся заряженных частиц)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4. Действует на магниты, проводники с током (движущиеся заряженные частицы) с некоторой силой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5. Никаких магнитных зарядов в природе не существует. Нельзя разделить северный и южный полюсы и получить тело с одним полюсом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7640" y="4292280"/>
            <a:ext cx="6337440" cy="26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ff3300"/>
                </a:solidFill>
                <a:latin typeface="Corbel"/>
              </a:rPr>
              <a:t>Тема 2.1</a:t>
            </a:r>
            <a:br>
              <a:rPr sz="4900"/>
            </a:br>
            <a:r>
              <a:rPr b="1" lang="ru-RU" sz="2800" spc="-1" strike="noStrike">
                <a:solidFill>
                  <a:srgbClr val="00b0f0"/>
                </a:solidFill>
                <a:latin typeface="Corbel"/>
              </a:rPr>
              <a:t>Свойства магнитного поля</a:t>
            </a:r>
            <a:br>
              <a:rPr sz="2800"/>
            </a:br>
            <a:r>
              <a:rPr b="1" lang="ru-RU" sz="1800" spc="-1" strike="noStrike">
                <a:solidFill>
                  <a:srgbClr val="03010f"/>
                </a:solidFill>
                <a:latin typeface="Corbel"/>
              </a:rPr>
              <a:t>6.  Причина, вследствие которой тела обладают магнитными свойствами, была найдена французским учёным Ампером. Ампер выдвинул заключение - магнитные свойства любого тела определяются замкнутыми электрическими токами внутри него.</a:t>
            </a:r>
            <a:br>
              <a:rPr sz="1800"/>
            </a:br>
            <a:r>
              <a:rPr b="1" lang="ru-RU" sz="1800" spc="-1" strike="noStrike">
                <a:solidFill>
                  <a:srgbClr val="03010f"/>
                </a:solidFill>
                <a:latin typeface="Corbel"/>
              </a:rPr>
              <a:t>Эти токи представляют собой движение электронов по орбитам в атоме.</a:t>
            </a:r>
            <a:br>
              <a:rPr sz="1800"/>
            </a:br>
            <a:r>
              <a:rPr b="1" lang="ru-RU" sz="1800" spc="-1" strike="noStrike">
                <a:solidFill>
                  <a:srgbClr val="03010f"/>
                </a:solidFill>
                <a:latin typeface="Corbel"/>
              </a:rPr>
              <a:t>7.  Магнитные силы действуют в магнитном поле по определенным направлениям, которые называют магнитными силовыми линиями. С их помощью можно удобно и наглядно показывать магнитное поле в том или ином случае.</a:t>
            </a:r>
            <a:br>
              <a:rPr sz="1800"/>
            </a:br>
            <a:r>
              <a:rPr b="1" lang="ru-RU" sz="1800" spc="-1" strike="noStrike">
                <a:solidFill>
                  <a:srgbClr val="03010f"/>
                </a:solidFill>
                <a:latin typeface="Corbel"/>
              </a:rPr>
              <a:t>8.  Магнитное поле характеризует вектор магнитной индукции.</a:t>
            </a:r>
            <a:br>
              <a:rPr sz="1800"/>
            </a:br>
            <a:r>
              <a:rPr b="1" lang="ru-RU" sz="1800" spc="-1" strike="noStrike">
                <a:solidFill>
                  <a:srgbClr val="03010f"/>
                </a:solidFill>
                <a:latin typeface="Corbel"/>
              </a:rPr>
              <a:t>Вектор магнитной индукции — векторная величина, характеризующая магнитное поле.</a:t>
            </a:r>
            <a:br>
              <a:rPr sz="1800"/>
            </a:br>
            <a:r>
              <a:rPr b="1" lang="ru-RU" sz="1800" spc="-1" strike="noStrike">
                <a:solidFill>
                  <a:srgbClr val="03010f"/>
                </a:solidFill>
                <a:latin typeface="Corbel"/>
              </a:rPr>
              <a:t>Направление вектора магнитной индукции совпадает с направлением северного полюса свободной магнитной стрелки в данной точке.</a:t>
            </a:r>
            <a:br>
              <a:rPr sz="16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95640" y="189000"/>
            <a:ext cx="640872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ff3300"/>
                </a:solidFill>
                <a:latin typeface="Corbel"/>
              </a:rPr>
              <a:t>Тема 2.1</a:t>
            </a:r>
            <a:br>
              <a:rPr sz="4900"/>
            </a:br>
            <a:br>
              <a:rPr sz="4900"/>
            </a:b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5" name="Рисунок 7" descr=""/>
          <p:cNvPicPr/>
          <p:nvPr/>
        </p:nvPicPr>
        <p:blipFill>
          <a:blip r:embed="rId1"/>
          <a:stretch/>
        </p:blipFill>
        <p:spPr>
          <a:xfrm>
            <a:off x="1763640" y="1395360"/>
            <a:ext cx="727236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orbel"/>
              </a:rPr>
              <a:t>Электромагнитная индукция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57" name="Group 5"/>
          <p:cNvGrpSpPr/>
          <p:nvPr/>
        </p:nvGrpSpPr>
        <p:grpSpPr>
          <a:xfrm>
            <a:off x="684360" y="3284640"/>
            <a:ext cx="4152240" cy="491760"/>
            <a:chOff x="684360" y="3284640"/>
            <a:chExt cx="4152240" cy="491760"/>
          </a:xfrm>
        </p:grpSpPr>
        <p:sp>
          <p:nvSpPr>
            <p:cNvPr id="258" name="Rectangle 6"/>
            <p:cNvSpPr/>
            <p:nvPr/>
          </p:nvSpPr>
          <p:spPr>
            <a:xfrm rot="10800000">
              <a:off x="2760840" y="3284640"/>
              <a:ext cx="2075760" cy="491760"/>
            </a:xfrm>
            <a:prstGeom prst="rect">
              <a:avLst/>
            </a:prstGeom>
            <a:solidFill>
              <a:srgbClr val="230e8a"/>
            </a:solidFill>
            <a:ln w="9360">
              <a:solidFill>
                <a:srgbClr val="0b0b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 rot="10800000">
              <a:off x="684360" y="3284640"/>
              <a:ext cx="2076480" cy="4917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b0b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Line 8"/>
          <p:cNvSpPr/>
          <p:nvPr/>
        </p:nvSpPr>
        <p:spPr>
          <a:xfrm>
            <a:off x="1189080" y="4005360"/>
            <a:ext cx="158436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9"/>
          <p:cNvGrpSpPr/>
          <p:nvPr/>
        </p:nvGrpSpPr>
        <p:grpSpPr>
          <a:xfrm>
            <a:off x="5364000" y="2133720"/>
            <a:ext cx="1295640" cy="3168000"/>
            <a:chOff x="5364000" y="2133720"/>
            <a:chExt cx="1295640" cy="3168000"/>
          </a:xfrm>
        </p:grpSpPr>
        <p:sp>
          <p:nvSpPr>
            <p:cNvPr id="262" name="Oval 10"/>
            <p:cNvSpPr/>
            <p:nvPr/>
          </p:nvSpPr>
          <p:spPr>
            <a:xfrm rot="16200000">
              <a:off x="4427640" y="3069720"/>
              <a:ext cx="3168000" cy="1295640"/>
            </a:xfrm>
            <a:prstGeom prst="ellipse">
              <a:avLst/>
            </a:prstGeom>
            <a:noFill/>
            <a:ln w="38160">
              <a:solidFill>
                <a:srgbClr val="0b0b1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rc 11"/>
            <p:cNvSpPr/>
            <p:nvPr/>
          </p:nvSpPr>
          <p:spPr>
            <a:xfrm rot="16200000">
              <a:off x="4117320" y="3410640"/>
              <a:ext cx="3137760" cy="644400"/>
            </a:xfrm>
            <a:custGeom>
              <a:avLst/>
              <a:gdLst/>
              <a:ahLst/>
              <a:rect l="l" t="t" r="r" b="b"/>
              <a:pathLst>
                <a:path fill="none" w="43200" h="21943">
                  <a:moveTo>
                    <a:pt x="2" y="21943"/>
                  </a:moveTo>
                  <a:cubicBezTo>
                    <a:pt x="0" y="21828"/>
                    <a:pt x="0" y="21714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599"/>
                  </a:cubicBezTo>
                </a:path>
                <a:path stroke="0" w="43200" h="21943">
                  <a:moveTo>
                    <a:pt x="2" y="21943"/>
                  </a:moveTo>
                  <a:cubicBezTo>
                    <a:pt x="0" y="21828"/>
                    <a:pt x="0" y="21714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599"/>
                  </a:cubicBezTo>
                  <a:lnTo>
                    <a:pt x="21600" y="21600"/>
                  </a:lnTo>
                  <a:lnTo>
                    <a:pt x="2" y="21943"/>
                  </a:lnTo>
                  <a:close/>
                </a:path>
              </a:pathLst>
            </a:custGeom>
            <a:noFill/>
            <a:ln w="38160">
              <a:solidFill>
                <a:srgbClr val="0b0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Line 13"/>
          <p:cNvSpPr/>
          <p:nvPr/>
        </p:nvSpPr>
        <p:spPr>
          <a:xfrm flipV="1">
            <a:off x="5364000" y="3255480"/>
            <a:ext cx="0" cy="792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5509080" y="314172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7"/>
          <p:cNvSpPr/>
          <p:nvPr/>
        </p:nvSpPr>
        <p:spPr>
          <a:xfrm flipH="1">
            <a:off x="3132000" y="4149720"/>
            <a:ext cx="144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8"/>
          <p:cNvSpPr/>
          <p:nvPr/>
        </p:nvSpPr>
        <p:spPr>
          <a:xfrm>
            <a:off x="5508720" y="3284640"/>
            <a:ext cx="0" cy="7207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"/>
          <p:cNvSpPr/>
          <p:nvPr/>
        </p:nvSpPr>
        <p:spPr>
          <a:xfrm>
            <a:off x="3798720" y="228600"/>
            <a:ext cx="336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rbel"/>
              </a:rPr>
              <a:t>Тема 2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L 0.12587 1.11111E-006 E">
                                      <p:cBhvr>
                                        <p:cTn id="6" dur="3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312 -0.0044 L 0.07205 -0.0044 E">
                                      <p:cBhvr>
                                        <p:cTn id="16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8-12-10T13:35:17Z</dcterms:modified>
  <cp:revision>48</cp:revision>
  <dc:subject/>
  <dc:title>PowerPoint Presentation</dc:title>
</cp:coreProperties>
</file>