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531-8907-48BA-A795-8218C6C7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FDBC-00B2-40D3-9705-B4F3924A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7CE-50B3-4901-8EAC-5AE2C00D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EE6-4378-4D01-95A8-25744676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859-C38C-44A0-BECD-7DBC824E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2C4-E3B7-4D0F-814E-BFAEF03D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2F6-91DD-4C14-B762-CEE512FB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F701-7DE9-4918-BAB3-874629E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3A8-031D-4914-B99D-BAEC0CD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70A-F7B2-4B38-9F2D-9C72FE5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5C12-3754-4F25-B1A0-76E10671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442-A4DA-4DDC-A0CD-A8EDA7A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99D-B3A7-4EC1-B3A9-EE29F0A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6A3-A7F5-4B2B-B534-16D12DC4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689B-2FA4-47C0-9907-964717F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7D7-31BC-4B8C-9C1D-D1224C0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4378-6DD0-4C8D-87DC-2FF74F7D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C5DF-AE1B-46B3-983F-E22EB418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A6B-EFE5-47B2-903A-A736DC98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63E3-5DCB-423A-88BD-0316CDEF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29B2-A155-4994-9405-692A4C13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29A6-82BE-4D71-8D60-3C50F7C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CBD2-FD72-4443-ADB6-2A77F238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2CED-D136-4ABD-8545-131AF53D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86-BF8D-4ED3-B206-9FB1947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1095-2734-42DD-BBBC-E047B6FC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DC3E-E1C8-4E85-9B69-F8714F3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D40F-4077-4EAB-A2E9-B7D540D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4704-1A54-4B8C-B864-03B1D3C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165E-55F0-46C7-90EC-082FEC0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EC72-F7DE-43ED-AAD1-E33A24E5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510B-66A5-45B2-9FB3-31C1139E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F1A6-1072-4BDE-B6C0-678C1027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11C0-EBD5-4448-A3D8-9110EE9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48F0-8E2B-4CFE-85F6-4B6D16E8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AD7-A1E0-4E34-A2B7-A782442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A182-C5EC-4DBF-ADEF-FA6F1361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A555-8BB4-4E45-94DA-7F1080E3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B668-8E23-4BDD-852A-F7EE3C7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618F-A38A-4FE1-A4C1-D817394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680C-B1E3-41D6-A54B-5B6BDE7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37EF-6E8F-4FF1-980F-934E2DE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F90D3-B0B2-491A-9711-8C81AAE8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34E6-4ED7-4F36-AEA8-A2FD0148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8578-0A23-49D2-A394-436B59C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313-3479-4372-A27F-960696B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740-F768-4299-8167-FDE4FA1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504-C9CF-4530-98AD-EE71793B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965-ACD6-484D-9934-FE05A58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92E-6CB8-4FA1-B92A-C5827F3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2C4-809F-4009-932F-993DED336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6AFF-1E0A-4061-AD65-936A8041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D67-E792-45C4-BB2E-99B56E04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2E4-789B-474F-B923-7F443A68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4" descr="Открытки в картинках День народного единства, Открытки в картинках 4 ноября скачать бесплатно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6360" y="228600"/>
            <a:ext cx="80154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дотворный образ Пресвятой Богород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kazanskaya3"/>
          <p:cNvPicPr/>
          <p:nvPr/>
        </p:nvPicPr>
        <p:blipFill>
          <a:blip r:embed="rId1"/>
          <a:stretch/>
        </p:blipFill>
        <p:spPr>
          <a:xfrm>
            <a:off x="306360" y="1069920"/>
            <a:ext cx="4160880" cy="5046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Празднованик Казанской иконы Божией Матери"/>
          <p:cNvPicPr/>
          <p:nvPr/>
        </p:nvPicPr>
        <p:blipFill>
          <a:blip r:embed="rId2"/>
          <a:stretch/>
        </p:blipFill>
        <p:spPr>
          <a:xfrm>
            <a:off x="4910040" y="1123920"/>
            <a:ext cx="400536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0760" y="3520800"/>
            <a:ext cx="827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казу царя Алексея Михайловича, правившего в 1645-1676 годах, в честь этого великого события был установлен праздник, ставший православно-государственным праздником Московской Руси (отмечался до 1917 года). В церковный календарь этот день вошел как Празднование Казанской иконе Божией Матери в память избавления Москвы и России от поляков в 1612 г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4520" y="2596680"/>
            <a:ext cx="7977240" cy="35290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9" descr="Праздник 4 ноября объединил всех россиян - Рамблер-Новости"/>
          <p:cNvPicPr/>
          <p:nvPr/>
        </p:nvPicPr>
        <p:blipFill>
          <a:blip r:embed="rId2"/>
          <a:stretch/>
        </p:blipFill>
        <p:spPr>
          <a:xfrm>
            <a:off x="1590840" y="166680"/>
            <a:ext cx="574344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8520" y="4700160"/>
            <a:ext cx="88423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ско Минина и Пожарского у стен Кремля. С чудотворной иконой Казанской Божией Матери, явленной в 1579 году, Нижегородское земское ополчение сумело 4 ноября 1612 года взять штурмом Китай-город и изгнать поляков из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5" descr="к-7"/>
          <p:cNvPicPr/>
          <p:nvPr/>
        </p:nvPicPr>
        <p:blipFill>
          <a:blip r:embed="rId1"/>
          <a:stretch/>
        </p:blipFill>
        <p:spPr>
          <a:xfrm>
            <a:off x="1082520" y="398520"/>
            <a:ext cx="7342200" cy="4767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4960" y="136440"/>
            <a:ext cx="87328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ражданину Минину и князю Пожарскому благодарная Россия. Лета 18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5" descr="minin907"/>
          <p:cNvPicPr/>
          <p:nvPr/>
        </p:nvPicPr>
        <p:blipFill>
          <a:blip r:embed="rId1"/>
          <a:stretch/>
        </p:blipFill>
        <p:spPr>
          <a:xfrm>
            <a:off x="658800" y="960480"/>
            <a:ext cx="4016520" cy="5192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11" name="Прямоугольник 5"/>
          <p:cNvSpPr/>
          <p:nvPr/>
        </p:nvSpPr>
        <p:spPr>
          <a:xfrm>
            <a:off x="4836960" y="1417680"/>
            <a:ext cx="4078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брый памятник по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вум героям всей стра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 знак того, что был изб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 бесчестья край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. Кончал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ЕРИ 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– 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т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без Род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кто р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е слу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й за нее посто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и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09160"/>
            <a:ext cx="8396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такое 4 Ноября дл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усского наро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91840" y="1407600"/>
            <a:ext cx="73134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ДЕНЬ НАРОДНОГО ЕДИНСТВА - дань глубокого уважения к тем знаменательным страницам отечественной истории, когда патриотизм и гражданственность помогли нашему народу объединиться и защи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у от захватчиков. Преодолеть времена безвластия и укрепить Российское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оспринимаем этот день как праздник добра и любви, заботы о ближних, поддержки нужд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7440" y="391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022280" y="1600200"/>
            <a:ext cx="465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едставляет прямоугольное полотнище трех равновеликих горизонтальных полос: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верхне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белого цвета;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средней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синего;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нижней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рас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инят Государственной Думой и подписан Президентом России В.В.Пути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5 декабря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флаг"/>
          <p:cNvPicPr/>
          <p:nvPr/>
        </p:nvPicPr>
        <p:blipFill>
          <a:blip r:embed="rId1"/>
          <a:stretch/>
        </p:blipFill>
        <p:spPr>
          <a:xfrm>
            <a:off x="479520" y="2422440"/>
            <a:ext cx="379080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Государственный герб Ро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1600200"/>
            <a:ext cx="429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едставляет четырехугольный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 закругленными нижними углами, заостренный в оконечности красный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геральдический щит с золотым двуглавым орлом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, поднявшим вверх распущенные крыл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рел увенчан двумя малыми коронами и одной большой, соединенными лентой. В правой лапе орла- скипетр, в левой- держ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а груди орла на красном щите- серебряный всадник в синем плаще на серебряном к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img1"/>
          <p:cNvPicPr/>
          <p:nvPr/>
        </p:nvPicPr>
        <p:blipFill>
          <a:blip r:embed="rId1"/>
          <a:stretch/>
        </p:blipFill>
        <p:spPr>
          <a:xfrm>
            <a:off x="417600" y="1609560"/>
            <a:ext cx="3833640" cy="42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1" descr="Турнир по дворовому футболу &quot;Золотая осень-2012&quot; пройдет в Комсомольске-на-Амуре"/>
          <p:cNvPicPr/>
          <p:nvPr/>
        </p:nvPicPr>
        <p:blipFill>
          <a:blip r:embed="rId1"/>
          <a:stretch/>
        </p:blipFill>
        <p:spPr>
          <a:xfrm>
            <a:off x="434880" y="303120"/>
            <a:ext cx="771228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41400" y="5568480"/>
            <a:ext cx="682776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ование 4 ноября в Ижев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3" descr="Новости региона Ижевск. Новости региона"/>
          <p:cNvPicPr/>
          <p:nvPr/>
        </p:nvPicPr>
        <p:blipFill>
          <a:blip r:embed="rId1"/>
          <a:stretch/>
        </p:blipFill>
        <p:spPr>
          <a:xfrm>
            <a:off x="987480" y="228600"/>
            <a:ext cx="71326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92400" y="493560"/>
            <a:ext cx="41274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был учрежден в память о событиях 1612 года, когда народное ополчение под предводительством Козьмы Минина и Дмитрия Пожарского освободило Москву от польских интервен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3" descr="День Народного Единства vsevecherinki.ru"/>
          <p:cNvPicPr/>
          <p:nvPr/>
        </p:nvPicPr>
        <p:blipFill>
          <a:blip r:embed="rId1"/>
          <a:stretch/>
        </p:blipFill>
        <p:spPr>
          <a:xfrm>
            <a:off x="512640" y="237960"/>
            <a:ext cx="425160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5400" y="3886200"/>
            <a:ext cx="73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2563"/>
          <p:cNvPicPr/>
          <p:nvPr/>
        </p:nvPicPr>
        <p:blipFill>
          <a:blip r:embed="rId1"/>
          <a:stretch/>
        </p:blipFill>
        <p:spPr>
          <a:xfrm>
            <a:off x="539640" y="274680"/>
            <a:ext cx="8136000" cy="61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5400" y="3886200"/>
            <a:ext cx="73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1006271_PH08083"/>
          <p:cNvPicPr/>
          <p:nvPr/>
        </p:nvPicPr>
        <p:blipFill>
          <a:blip r:embed="rId1"/>
          <a:stretch/>
        </p:blipFill>
        <p:spPr>
          <a:xfrm>
            <a:off x="614520" y="652320"/>
            <a:ext cx="4032000" cy="51850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5029200" y="1123920"/>
            <a:ext cx="3894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605 году умер русский царь Борис Году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было тяжелое время для России. Смерть Ивана Грозного, русское государство распалось, появились многочисленные самозван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06600" y="274320"/>
            <a:ext cx="447516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5" descr="к-4"/>
          <p:cNvPicPr/>
          <p:nvPr/>
        </p:nvPicPr>
        <p:blipFill>
          <a:blip r:embed="rId1"/>
          <a:stretch/>
        </p:blipFill>
        <p:spPr>
          <a:xfrm>
            <a:off x="219240" y="217440"/>
            <a:ext cx="3740040" cy="45021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85" name="Рисунок 5" descr="к-6"/>
          <p:cNvPicPr/>
          <p:nvPr/>
        </p:nvPicPr>
        <p:blipFill>
          <a:blip r:embed="rId2"/>
          <a:stretch/>
        </p:blipFill>
        <p:spPr>
          <a:xfrm>
            <a:off x="4562640" y="1814400"/>
            <a:ext cx="4101840" cy="4924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86" name="TextBox 5"/>
          <p:cNvSpPr/>
          <p:nvPr/>
        </p:nvSpPr>
        <p:spPr>
          <a:xfrm>
            <a:off x="530280" y="5221440"/>
            <a:ext cx="33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ушинский вор»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3160" y="5111280"/>
            <a:ext cx="8508960" cy="17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сть в Москве узурпировала «семибоярщина» во главе с князем Федором Мстисла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5" descr="Без имени-1"/>
          <p:cNvPicPr/>
          <p:nvPr/>
        </p:nvPicPr>
        <p:blipFill>
          <a:blip r:embed="rId1"/>
          <a:stretch/>
        </p:blipFill>
        <p:spPr>
          <a:xfrm>
            <a:off x="1274760" y="274680"/>
            <a:ext cx="6789600" cy="47307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9840" y="5157360"/>
            <a:ext cx="83660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ские войска вошли в Кремль с намерением посадить на русский престол католического королевича Владис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к-1"/>
          <p:cNvPicPr/>
          <p:nvPr/>
        </p:nvPicPr>
        <p:blipFill>
          <a:blip r:embed="rId1"/>
          <a:stretch/>
        </p:blipFill>
        <p:spPr>
          <a:xfrm>
            <a:off x="1006560" y="414360"/>
            <a:ext cx="6902280" cy="4653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звание Ми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4" descr="ф"/>
          <p:cNvPicPr/>
          <p:nvPr/>
        </p:nvPicPr>
        <p:blipFill>
          <a:blip r:embed="rId1"/>
          <a:stretch/>
        </p:blipFill>
        <p:spPr>
          <a:xfrm>
            <a:off x="1243080" y="1400040"/>
            <a:ext cx="6381720" cy="4726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ин и Пожарский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ои Земли Рус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726cd798c2e2"/>
          <p:cNvPicPr/>
          <p:nvPr/>
        </p:nvPicPr>
        <p:blipFill>
          <a:blip r:embed="rId1"/>
          <a:stretch/>
        </p:blipFill>
        <p:spPr>
          <a:xfrm>
            <a:off x="438120" y="1434960"/>
            <a:ext cx="3159000" cy="452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Minin"/>
          <p:cNvPicPr/>
          <p:nvPr/>
        </p:nvPicPr>
        <p:blipFill>
          <a:blip r:embed="rId2"/>
          <a:stretch/>
        </p:blipFill>
        <p:spPr>
          <a:xfrm>
            <a:off x="5072040" y="141768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знамена Пожарского и Минина собралось огромное по тому времени войско - более 10 тысяч служилых поместных людей, до трех тысяч казаков, более тысячи стрельцов и множество «даточных людей» из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4" descr="кеапк"/>
          <p:cNvPicPr/>
          <p:nvPr/>
        </p:nvPicPr>
        <p:blipFill>
          <a:blip r:embed="rId1"/>
          <a:stretch/>
        </p:blipFill>
        <p:spPr>
          <a:xfrm>
            <a:off x="1206360" y="2374920"/>
            <a:ext cx="6743880" cy="4238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4:48Z</dcterms:created>
  <dc:creator>qwerty</dc:creator>
  <dc:description/>
  <cp:keywords>скачать тему для презентации</cp:keywords>
  <dc:language>en-US</dc:language>
  <cp:lastModifiedBy>user</cp:lastModifiedBy>
  <dcterms:modified xsi:type="dcterms:W3CDTF">2014-10-29T10:35:10Z</dcterms:modified>
  <cp:revision>26</cp:revision>
  <dc:subject/>
  <dc:title>Слайд 1</dc:title>
</cp:coreProperties>
</file>